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5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2EAEB1-52D6-45D2-9F01-C2A83843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06E6D2-068D-41AE-BAB1-D64818FB4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6E92DD-AEAD-4A80-9AD0-01667678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441360" y="379440"/>
            <a:ext cx="5886360" cy="441468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226800" y="4913280"/>
            <a:ext cx="648972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7E440E-6818-4804-84A6-C4A2ACF6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31840" y="685800"/>
            <a:ext cx="4664160" cy="349884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0800" y="4413240"/>
            <a:ext cx="51008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BE79AD-D7E3-4737-9501-32B407196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250920" y="303120"/>
            <a:ext cx="6459480" cy="484524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301680" y="5148000"/>
            <a:ext cx="634680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4B05C4-3F26-42E1-B7B7-3042EE24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441360" y="379440"/>
            <a:ext cx="5886360" cy="441468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26800" y="4913280"/>
            <a:ext cx="648972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2F9C77-45CB-4580-8E59-B08D96D01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 txBox="1"/>
          <p:nvPr/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46A7CD-2975-4568-92D3-4416113D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8240" cy="414972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llel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ldImg"/>
          </p:nvPr>
        </p:nvSpPr>
        <p:spPr>
          <a:xfrm>
            <a:off x="1174680" y="698400"/>
            <a:ext cx="459288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B731-A225-4D98-AB02-7B536F4C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4932-3028-4B00-BA86-EB07A668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890A-F7CF-4A47-8FC7-7D5185A3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3AAC-9EE5-458F-83E0-3083FEE5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2149-00FB-4249-BA63-70C39598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F46C-6354-4074-B746-97AC4EE4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7DC7-4C04-48B1-9140-93DE93CF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B95A-D76B-446E-B718-98E67899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22CB-0D1D-4692-B2DC-8BF88E24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2021-6091-42CC-9137-E4B437B4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E8C3-87B4-41C5-B014-1CEEEB3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89BC-0FAF-473F-BEB2-6B30C1C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6320" y="609552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47E-52A6-4D49-997F-9D76A8E08788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33160" y="609552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06AC-2612-40B9-962F-598EBF5AC75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00800"/>
            <a:ext cx="2951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brands and names are the property of their respective owner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047760" y="6095520"/>
            <a:ext cx="3095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a6cae1"/>
                </a:solidFill>
                <a:latin typeface="Verdana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cae1"/>
                </a:solidFill>
                <a:latin typeface="Verdana"/>
                <a:ea typeface="MS PGothic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819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Optimization Techniques For Maximizing Application Performance on Multi-Core Processor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53376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6880" y="4800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ittur Gan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969E-38C3-4E5C-BB29-221465803C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CBD88-8594-4C6B-95E3-880902D1DBFC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llelism – Threading: When, Why, How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o threa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ependent tasks that can execute concurr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threa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urnaround or Throughpu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threa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nctionality or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define independent task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sk or Data de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F75C-5AB7-488C-8E19-48F84BDF1F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8E3FF-9F58-42AA-8C2D-B5DA428CBE8B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380880" y="1295280"/>
            <a:ext cx="4952880" cy="2667960"/>
            <a:chOff x="380880" y="1295280"/>
            <a:chExt cx="4952880" cy="2667960"/>
          </a:xfrm>
        </p:grpSpPr>
        <p:sp>
          <p:nvSpPr>
            <p:cNvPr id="120" name=""/>
            <p:cNvSpPr/>
            <p:nvPr/>
          </p:nvSpPr>
          <p:spPr>
            <a:xfrm>
              <a:off x="380880" y="1295280"/>
              <a:ext cx="49528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Open DB’s            Address Book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3541680"/>
              <a:ext cx="3657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InBox             Calend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2057400"/>
              <a:ext cx="1447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14400" y="2239920"/>
              <a:ext cx="1474920" cy="744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920" y="2411280"/>
              <a:ext cx="404640" cy="406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823680" y="1741320"/>
              <a:ext cx="73188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809880" y="2608200"/>
              <a:ext cx="91908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1638360" y="2673360"/>
              <a:ext cx="860400" cy="8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3611520" y="1690560"/>
              <a:ext cx="914400" cy="83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01680"/>
            <a:ext cx="7589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Functional/Data Decomposition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80880" y="4495680"/>
            <a:ext cx="6019920" cy="1295280"/>
            <a:chOff x="380880" y="4495680"/>
            <a:chExt cx="6019920" cy="1295280"/>
          </a:xfrm>
        </p:grpSpPr>
        <p:sp>
          <p:nvSpPr>
            <p:cNvPr id="131" name=""/>
            <p:cNvSpPr/>
            <p:nvPr/>
          </p:nvSpPr>
          <p:spPr>
            <a:xfrm>
              <a:off x="380880" y="5344920"/>
              <a:ext cx="685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6000" y="5344920"/>
              <a:ext cx="685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1218960" y="4964040"/>
              <a:ext cx="9064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3047760" y="4887720"/>
              <a:ext cx="9907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7"/>
            <a:stretch/>
          </p:blipFill>
          <p:spPr>
            <a:xfrm>
              <a:off x="4967280" y="5040360"/>
              <a:ext cx="823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066680" y="4495680"/>
              <a:ext cx="53341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Open File</a:t>
              </a: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5e647"/>
                  </a:solidFill>
                  <a:latin typeface="Arial"/>
                </a:rPr>
                <a:t>  Edit       Spell Chec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0760" y="5344920"/>
              <a:ext cx="685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52280" y="4191120"/>
            <a:ext cx="876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9160" y="228600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urr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7920" y="50292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quential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8298C-5BFC-486A-B565-5CCD58B3A0D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75116-C1AD-4A8E-B40A-156F98151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hared Memory Parallelism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ple thread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ecuting concurr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ing a single address sp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aring work in coordinated fash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heduling handled by 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quires a system that provides sha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5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mory and multiple CP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D59E-0CBD-4B82-AFB2-1E1843ED6F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72064-3BFF-4177-A404-DF75A87623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Keys to Parallelis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579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dentify concurrent wor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read work evenly among work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 private copi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commonly used resourc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nchronize access to costly or unique shared resourc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15000" y="1447920"/>
            <a:ext cx="3024000" cy="3566520"/>
            <a:chOff x="5715000" y="1447920"/>
            <a:chExt cx="3024000" cy="3566520"/>
          </a:xfrm>
        </p:grpSpPr>
        <p:sp>
          <p:nvSpPr>
            <p:cNvPr id="146" name=""/>
            <p:cNvSpPr/>
            <p:nvPr/>
          </p:nvSpPr>
          <p:spPr>
            <a:xfrm>
              <a:off x="5920920" y="1957320"/>
              <a:ext cx="2818080" cy="2547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0920" y="3995280"/>
              <a:ext cx="2818080" cy="509400"/>
            </a:xfrm>
            <a:prstGeom prst="rect">
              <a:avLst/>
            </a:prstGeom>
            <a:solidFill>
              <a:srgbClr val="00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95960" y="3849840"/>
              <a:ext cx="2543040" cy="2912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5715000" y="3149280"/>
              <a:ext cx="756000" cy="99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570440" y="3704400"/>
              <a:ext cx="274680" cy="8002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20920" y="4213800"/>
              <a:ext cx="1649520" cy="14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5480" y="4213800"/>
              <a:ext cx="893520" cy="14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0720" y="2757960"/>
              <a:ext cx="480960" cy="291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45680" y="2976480"/>
              <a:ext cx="1168560" cy="873360"/>
            </a:xfrm>
            <a:prstGeom prst="rect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5680" y="2976480"/>
              <a:ext cx="1168560" cy="873360"/>
            </a:xfrm>
            <a:prstGeom prst="line">
              <a:avLst/>
            </a:prstGeom>
            <a:ln w="3816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745680" y="2976480"/>
              <a:ext cx="1168560" cy="873360"/>
            </a:xfrm>
            <a:prstGeom prst="line">
              <a:avLst/>
            </a:prstGeom>
            <a:ln w="3816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20920" y="1957320"/>
              <a:ext cx="2818080" cy="436680"/>
            </a:xfrm>
            <a:prstGeom prst="rect">
              <a:avLst/>
            </a:prstGeom>
            <a:solidFill>
              <a:srgbClr val="00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51760" y="2248200"/>
              <a:ext cx="687240" cy="58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7570440" y="1447920"/>
              <a:ext cx="756000" cy="99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207480" y="2089080"/>
              <a:ext cx="945000" cy="529200"/>
            </a:xfrm>
            <a:custGeom>
              <a:avLst/>
              <a:gdLst/>
              <a:ahLst/>
              <a:rect l="l" t="t" r="r" b="b"/>
              <a:pathLst>
                <a:path w="660" h="349">
                  <a:moveTo>
                    <a:pt x="0" y="191"/>
                  </a:moveTo>
                  <a:cubicBezTo>
                    <a:pt x="11" y="142"/>
                    <a:pt x="28" y="118"/>
                    <a:pt x="81" y="98"/>
                  </a:cubicBezTo>
                  <a:cubicBezTo>
                    <a:pt x="126" y="55"/>
                    <a:pt x="195" y="31"/>
                    <a:pt x="256" y="17"/>
                  </a:cubicBezTo>
                  <a:cubicBezTo>
                    <a:pt x="469" y="0"/>
                    <a:pt x="454" y="41"/>
                    <a:pt x="556" y="60"/>
                  </a:cubicBezTo>
                  <a:cubicBezTo>
                    <a:pt x="591" y="77"/>
                    <a:pt x="617" y="94"/>
                    <a:pt x="638" y="126"/>
                  </a:cubicBezTo>
                  <a:cubicBezTo>
                    <a:pt x="645" y="149"/>
                    <a:pt x="655" y="162"/>
                    <a:pt x="660" y="186"/>
                  </a:cubicBezTo>
                  <a:cubicBezTo>
                    <a:pt x="654" y="235"/>
                    <a:pt x="655" y="297"/>
                    <a:pt x="600" y="317"/>
                  </a:cubicBezTo>
                  <a:cubicBezTo>
                    <a:pt x="574" y="315"/>
                    <a:pt x="548" y="316"/>
                    <a:pt x="523" y="311"/>
                  </a:cubicBezTo>
                  <a:cubicBezTo>
                    <a:pt x="505" y="308"/>
                    <a:pt x="469" y="281"/>
                    <a:pt x="452" y="273"/>
                  </a:cubicBezTo>
                  <a:cubicBezTo>
                    <a:pt x="436" y="265"/>
                    <a:pt x="415" y="262"/>
                    <a:pt x="398" y="257"/>
                  </a:cubicBezTo>
                  <a:cubicBezTo>
                    <a:pt x="357" y="230"/>
                    <a:pt x="352" y="241"/>
                    <a:pt x="289" y="246"/>
                  </a:cubicBezTo>
                  <a:cubicBezTo>
                    <a:pt x="234" y="262"/>
                    <a:pt x="267" y="291"/>
                    <a:pt x="218" y="306"/>
                  </a:cubicBezTo>
                  <a:cubicBezTo>
                    <a:pt x="141" y="344"/>
                    <a:pt x="145" y="349"/>
                    <a:pt x="92" y="333"/>
                  </a:cubicBezTo>
                  <a:cubicBezTo>
                    <a:pt x="78" y="324"/>
                    <a:pt x="16" y="295"/>
                    <a:pt x="11" y="278"/>
                  </a:cubicBezTo>
                  <a:cubicBezTo>
                    <a:pt x="1" y="242"/>
                    <a:pt x="14" y="174"/>
                    <a:pt x="0" y="19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20920" y="4505040"/>
              <a:ext cx="2818080" cy="50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20920" y="4764240"/>
              <a:ext cx="2818080" cy="0"/>
            </a:xfrm>
            <a:prstGeom prst="line">
              <a:avLst/>
            </a:prstGeom>
            <a:ln w="38160">
              <a:solidFill>
                <a:srgbClr val="ff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2F317-EA42-48DA-A7B8-5688A54D5CF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8D2E6-B35D-4D37-B935-0BD6F6D285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peedup = 1/(P/N + S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5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 (parallel code fraction) S (serial code fraction) N (processo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xample: Image process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0 minutes of preparation (seria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ne minute to scan a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0 minutes of cleanup (serial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eedup is restricted by serial portion. And, speedup increases with greater number of cores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dahl’s Law -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oretical Maximum Speedup of parallel execu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002120" cy="21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2C1B-74CC-4AC6-B01A-9E3F49E57D2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6A9D1-06F4-47B7-9703-2BB757C062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22880" y="4987800"/>
            <a:ext cx="2568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0520" y="4987800"/>
            <a:ext cx="2568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27400" y="4987800"/>
            <a:ext cx="2568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480" y="1447920"/>
            <a:ext cx="8800920" cy="3270240"/>
            <a:chOff x="114480" y="1447920"/>
            <a:chExt cx="8800920" cy="3270240"/>
          </a:xfrm>
        </p:grpSpPr>
        <p:sp>
          <p:nvSpPr>
            <p:cNvPr id="170" name=""/>
            <p:cNvSpPr/>
            <p:nvPr/>
          </p:nvSpPr>
          <p:spPr>
            <a:xfrm>
              <a:off x="114480" y="1486080"/>
              <a:ext cx="4017960" cy="2479320"/>
            </a:xfrm>
            <a:prstGeom prst="rect">
              <a:avLst/>
            </a:prstGeom>
            <a:solidFill>
              <a:srgbClr val="a6ca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68400" y="146844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rocessor  (D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85840" y="3629160"/>
              <a:ext cx="0" cy="201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1280" y="3830760"/>
              <a:ext cx="3597480" cy="0"/>
            </a:xfrm>
            <a:prstGeom prst="line">
              <a:avLst/>
            </a:prstGeom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41280" y="1862280"/>
              <a:ext cx="1663560" cy="1755720"/>
              <a:chOff x="341280" y="1862280"/>
              <a:chExt cx="1663560" cy="175572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41280" y="1862280"/>
                <a:ext cx="1663560" cy="1755720"/>
                <a:chOff x="341280" y="1862280"/>
                <a:chExt cx="1663560" cy="1755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7480" y="1888200"/>
                  <a:ext cx="1647360" cy="172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341280" y="1862280"/>
                  <a:ext cx="1647360" cy="1738080"/>
                  <a:chOff x="341280" y="1862280"/>
                  <a:chExt cx="1647360" cy="17380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341280" y="1862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41280" y="1870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41280" y="1879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41280" y="1888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41280" y="1896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41280" y="1905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41280" y="191412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41280" y="1923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41280" y="1932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41280" y="1940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41280" y="1949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41280" y="1958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41280" y="1967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41280" y="1975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41280" y="1984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41280" y="1992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41280" y="2001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41280" y="2010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41280" y="2018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41280" y="2027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41280" y="2036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41280" y="2044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1280" y="2053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41280" y="2062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1280" y="2070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1280" y="2079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41280" y="2088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41280" y="2096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41280" y="2105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41280" y="2113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41280" y="2122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1280" y="2131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1280" y="2140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41280" y="2148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41280" y="2157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41280" y="216612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41280" y="2175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41280" y="2184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41280" y="2193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41280" y="2201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41280" y="2210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41280" y="2219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41280" y="2227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41280" y="2236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41280" y="2244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41280" y="2253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41280" y="2262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41280" y="2270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41280" y="2279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41280" y="2288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41280" y="2296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41280" y="2305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41280" y="2314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41280" y="2322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41280" y="2331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41280" y="2340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41280" y="2348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41280" y="2357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41280" y="2366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41280" y="2374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41280" y="2383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341280" y="2392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341280" y="2400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41280" y="2409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41280" y="2418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41280" y="2426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41280" y="2436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341280" y="2445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41280" y="2453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41280" y="2462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41280" y="2471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41280" y="2479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41280" y="2488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41280" y="2496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41280" y="2505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41280" y="2514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41280" y="2522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41280" y="2531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41280" y="2540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41280" y="2548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341280" y="2557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41280" y="2566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41280" y="2574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41280" y="2583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41280" y="2592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41280" y="2601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41280" y="2609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41280" y="2618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41280" y="2626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41280" y="2635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41280" y="2644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41280" y="2652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41280" y="2661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41280" y="2670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41280" y="2678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41280" y="2687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341280" y="2697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41280" y="2705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41280" y="2714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41280" y="2723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41280" y="2731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41280" y="2740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41280" y="2748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41280" y="2757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1280" y="2766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41280" y="2774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41280" y="2783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41280" y="2792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41280" y="2800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41280" y="2809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41280" y="2818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41280" y="2827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41280" y="2835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41280" y="2844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41280" y="2853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41280" y="2861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41280" y="2870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41280" y="2878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1280" y="2887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41280" y="2896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41280" y="2904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41280" y="2913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1280" y="2922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41280" y="2931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41280" y="2939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41280" y="2949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41280" y="2957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41280" y="2966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41280" y="2975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41280" y="2983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41280" y="2992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41280" y="3000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41280" y="3009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41280" y="3018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341280" y="3026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41280" y="3035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41280" y="3044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41280" y="3052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41280" y="3061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41280" y="3070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41280" y="3079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41280" y="3087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41280" y="3096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41280" y="3105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41280" y="3113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41280" y="3122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41280" y="3130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41280" y="3139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41280" y="3148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41280" y="3157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41280" y="3165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41280" y="3174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41280" y="3183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41280" y="3191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41280" y="320040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41280" y="3209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41280" y="3218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41280" y="3227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41280" y="3235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41280" y="3244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41280" y="3252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41280" y="3261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41280" y="3270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341280" y="3278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41280" y="3287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41280" y="3296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41280" y="3305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41280" y="3313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41280" y="3322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41280" y="3331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41280" y="3339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41280" y="3348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41280" y="3357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41280" y="3365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41280" y="3374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41280" y="3383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41280" y="3391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41280" y="3400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41280" y="3409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41280" y="3417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41280" y="3426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41280" y="3435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41280" y="3443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41280" y="345240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41280" y="3461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41280" y="3470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41280" y="3479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41280" y="3487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41280" y="3496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41280" y="3504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41280" y="3513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41280" y="3522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41280" y="3531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41280" y="3539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41280" y="3548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1280" y="3557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41280" y="3565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41280" y="3574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41280" y="3583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41280" y="3591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341280" y="1862280"/>
                  <a:ext cx="1647360" cy="173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461520" y="2534040"/>
                <a:ext cx="1425240" cy="94140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637920" y="1965600"/>
                <a:ext cx="1042200" cy="507600"/>
                <a:chOff x="637920" y="1965600"/>
                <a:chExt cx="1042200" cy="5076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37920" y="1965600"/>
                  <a:ext cx="1042200" cy="25308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016280" y="201024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37920" y="2216880"/>
                  <a:ext cx="1042200" cy="24444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975960" y="2259720"/>
                  <a:ext cx="3495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1166400" y="4076640"/>
              <a:ext cx="5667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S = Architecture State (registers, flags, timestamp counter, etc.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IC = Advanced Programmable Interrupt Control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= Processor Execution Resources (execution units, instruction decode, etc.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9400" y="3629160"/>
              <a:ext cx="0" cy="2016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274840" y="1862280"/>
              <a:ext cx="1663920" cy="1755720"/>
              <a:chOff x="2274840" y="1862280"/>
              <a:chExt cx="1663920" cy="175572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2274840" y="1862280"/>
                <a:ext cx="1663920" cy="1755720"/>
                <a:chOff x="2274840" y="1862280"/>
                <a:chExt cx="1663920" cy="1755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291040" y="1888200"/>
                  <a:ext cx="1647720" cy="172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2274840" y="1862280"/>
                  <a:ext cx="1647720" cy="1738080"/>
                  <a:chOff x="2274840" y="1862280"/>
                  <a:chExt cx="1647720" cy="17380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2274840" y="1862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274840" y="1870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274840" y="1879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274840" y="1888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274840" y="1896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274840" y="1905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74840" y="191412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274840" y="1923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274840" y="1932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274840" y="1940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274840" y="1949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274840" y="1958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274840" y="1967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274840" y="1975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274840" y="1984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274840" y="1992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274840" y="2001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274840" y="2010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274840" y="2018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274840" y="2027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274840" y="2036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274840" y="2044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274840" y="2053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274840" y="2062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274840" y="2070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274840" y="2079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274840" y="2088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274840" y="2096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274840" y="2105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274840" y="2113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274840" y="2122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274840" y="2131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274840" y="2140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274840" y="2148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274840" y="2157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274840" y="216612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274840" y="2175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274840" y="2184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274840" y="2193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274840" y="2201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274840" y="2210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274840" y="2219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274840" y="2227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274840" y="2236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274840" y="2244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274840" y="2253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274840" y="2262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274840" y="2270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274840" y="2279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274840" y="2288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274840" y="2296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274840" y="2305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274840" y="2314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274840" y="2322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274840" y="2331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274840" y="2340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274840" y="2348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274840" y="2357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274840" y="2366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274840" y="2374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274840" y="2383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274840" y="2392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274840" y="2400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274840" y="2409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274840" y="2418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274840" y="242676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274840" y="2436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274840" y="2445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274840" y="2453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274840" y="2462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274840" y="2471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274840" y="2479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274840" y="2488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274840" y="2496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274840" y="2505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274840" y="2514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274840" y="2522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274840" y="2531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274840" y="2540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274840" y="2548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274840" y="2557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274840" y="2566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274840" y="2574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274840" y="2583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274840" y="2592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274840" y="2601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274840" y="2609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74840" y="2618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274840" y="2626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274840" y="2635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274840" y="2644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274840" y="2652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74840" y="2661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74840" y="2670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74840" y="2678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274840" y="268776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274840" y="2697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274840" y="2705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274840" y="2714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274840" y="2723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274840" y="2731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274840" y="2740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74840" y="2748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274840" y="2757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274840" y="2766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74840" y="2774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274840" y="2783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274840" y="2792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274840" y="2800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274840" y="2809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274840" y="2818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274840" y="2827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274840" y="2835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274840" y="2844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274840" y="2853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274840" y="2861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274840" y="2870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274840" y="2878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274840" y="2887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274840" y="2896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274840" y="2904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274840" y="2913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274840" y="2922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274840" y="2931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274840" y="293976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274840" y="2949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274840" y="2957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274840" y="2966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74840" y="2975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274840" y="2983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274840" y="2992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274840" y="3000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274840" y="3009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274840" y="3018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274840" y="3026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274840" y="3035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274840" y="3044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274840" y="3052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274840" y="3061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274840" y="3070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274840" y="3079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274840" y="3087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274840" y="3096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274840" y="3105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274840" y="3113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274840" y="3122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274840" y="3130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274840" y="3139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274840" y="3148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274840" y="3157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274840" y="3165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274840" y="3174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274840" y="3183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274840" y="3191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274840" y="320040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274840" y="3209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274840" y="3218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274840" y="3227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274840" y="3235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274840" y="3244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274840" y="3252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274840" y="3261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274840" y="3270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274840" y="3278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274840" y="3287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274840" y="3296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2274840" y="3305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2274840" y="3313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2274840" y="3322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274840" y="3331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2274840" y="3339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274840" y="33483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274840" y="33570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274840" y="33656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274840" y="3374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274840" y="33832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274840" y="33919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274840" y="34005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274840" y="34092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274840" y="34178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274840" y="34264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274840" y="34351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274840" y="3443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274840" y="3452400"/>
                    <a:ext cx="164772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274840" y="34617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274840" y="34704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274840" y="34790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274840" y="34876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274840" y="34963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274840" y="35049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274840" y="3513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274840" y="35226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274840" y="35312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274840" y="35398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274840" y="35485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274840" y="355716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274840" y="356580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274840" y="357444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274840" y="358308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274840" y="3591720"/>
                    <a:ext cx="164772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" name=""/>
                <p:cNvSpPr/>
                <p:nvPr/>
              </p:nvSpPr>
              <p:spPr>
                <a:xfrm>
                  <a:off x="2274840" y="1862280"/>
                  <a:ext cx="1647720" cy="173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2395440" y="2534040"/>
                <a:ext cx="1425600" cy="94140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2571840" y="1965600"/>
                <a:ext cx="1042560" cy="507600"/>
                <a:chOff x="2571840" y="1965600"/>
                <a:chExt cx="1042560" cy="5076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571840" y="1965600"/>
                  <a:ext cx="1042560" cy="25308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950200" y="201024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71840" y="2216880"/>
                  <a:ext cx="1042560" cy="24444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09880" y="2259720"/>
                  <a:ext cx="3495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8" name=""/>
            <p:cNvGrpSpPr/>
            <p:nvPr/>
          </p:nvGrpSpPr>
          <p:grpSpPr>
            <a:xfrm>
              <a:off x="4343040" y="1447920"/>
              <a:ext cx="2076480" cy="2491920"/>
              <a:chOff x="4343040" y="1447920"/>
              <a:chExt cx="2076480" cy="2491920"/>
            </a:xfrm>
          </p:grpSpPr>
          <p:sp>
            <p:nvSpPr>
              <p:cNvPr id="599" name=""/>
              <p:cNvSpPr/>
              <p:nvPr/>
            </p:nvSpPr>
            <p:spPr>
              <a:xfrm>
                <a:off x="4343400" y="1460520"/>
                <a:ext cx="2076120" cy="2479320"/>
              </a:xfrm>
              <a:prstGeom prst="rect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4530600" y="1834920"/>
                <a:ext cx="1663560" cy="1755360"/>
                <a:chOff x="4530600" y="1834920"/>
                <a:chExt cx="1663560" cy="17553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546800" y="1860840"/>
                  <a:ext cx="1647360" cy="1729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4530600" y="1834920"/>
                  <a:ext cx="1647360" cy="1737720"/>
                  <a:chOff x="4530600" y="1834920"/>
                  <a:chExt cx="1647360" cy="173772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4530600" y="1834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530600" y="1843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530600" y="1852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4530600" y="1860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4530600" y="1869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4530600" y="1878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4530600" y="1886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530600" y="1896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4530600" y="1904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4530600" y="1913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530600" y="1922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4530600" y="1931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4530600" y="1939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530600" y="1948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530600" y="1956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4530600" y="1965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530600" y="1974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530600" y="1982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530600" y="1991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4530600" y="2000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4530600" y="2008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4530600" y="2017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4530600" y="2026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4530600" y="2034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530600" y="2043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530600" y="2052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4530600" y="2060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4530600" y="2069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530600" y="2077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530600" y="2086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4530600" y="2095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4530600" y="2104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4530600" y="2112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530600" y="2121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530600" y="2130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530600" y="213876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530600" y="2148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530600" y="2156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530600" y="2165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530600" y="2174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4530600" y="2183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4530600" y="2191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530600" y="2200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530600" y="2208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4530600" y="2217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530600" y="2226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530600" y="2234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4530600" y="2243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530600" y="2252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4530600" y="2260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4530600" y="2269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4530600" y="2278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4530600" y="2286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530600" y="2295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530600" y="2304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530600" y="2312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530600" y="2321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530600" y="2329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530600" y="2338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530600" y="2347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30600" y="2356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30600" y="2364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530600" y="2373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530600" y="2382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530600" y="2390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530600" y="239940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530600" y="2408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530600" y="2417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530600" y="2426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530600" y="2434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530600" y="2443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4530600" y="2451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530600" y="2460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530600" y="2469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4530600" y="2478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530600" y="2486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530600" y="2495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4530600" y="2504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4530600" y="2512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530600" y="2521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530600" y="2530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530600" y="2538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530600" y="2547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530600" y="2556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530600" y="2564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530600" y="2573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530600" y="2582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4530600" y="2590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530600" y="2599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530600" y="2608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530600" y="2616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530600" y="2625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530600" y="2634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530600" y="2642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530600" y="2651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4530600" y="266004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530600" y="2669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530600" y="2678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4530600" y="2686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530600" y="2695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530600" y="2703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4530600" y="2712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4530600" y="2721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530600" y="2730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4530600" y="2738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4530600" y="2747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530600" y="2756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4530600" y="2764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530600" y="2773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530600" y="2782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4530600" y="2790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4530600" y="2799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530600" y="2808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530600" y="2816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4530600" y="2825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4530600" y="2833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530600" y="2842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4530600" y="2851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4530600" y="2859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4530600" y="2868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4530600" y="2877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4530600" y="2885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530600" y="2894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4530600" y="2903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4530600" y="291204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530600" y="2921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530600" y="2930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4530600" y="2938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4530600" y="2947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4530600" y="2956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530600" y="2964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530600" y="2973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530600" y="2982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530600" y="2990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530600" y="2999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530600" y="3008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530600" y="3016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530600" y="3025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4530600" y="3034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4530600" y="3042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530600" y="3051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530600" y="3060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4530600" y="3068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530600" y="3077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530600" y="3085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530600" y="3094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530600" y="3103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530600" y="3111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530600" y="3120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530600" y="3129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530600" y="3138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530600" y="3146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530600" y="3155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530600" y="3164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530600" y="317268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530600" y="3182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530600" y="3191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530600" y="3199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530600" y="3208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530600" y="3216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530600" y="3225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530600" y="3234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530600" y="3242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4530600" y="3251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530600" y="3260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4530600" y="3268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530600" y="3277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530600" y="3286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4530600" y="3294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4530600" y="3303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530600" y="3312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530600" y="33206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530600" y="33292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530600" y="33379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530600" y="3346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530600" y="33555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530600" y="33642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30600" y="33728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530600" y="33814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530600" y="33901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530600" y="33987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530600" y="34074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530600" y="3416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4530600" y="3424680"/>
                    <a:ext cx="1647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4530600" y="34340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4530600" y="34426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4530600" y="34513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4530600" y="34599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4530600" y="34686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4530600" y="34772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4530600" y="3485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530600" y="34948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4530600" y="35035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4530600" y="35121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530600" y="35208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530600" y="352944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530600" y="353808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530600" y="354672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530600" y="355536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530600" y="3564000"/>
                    <a:ext cx="1647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"/>
                <p:cNvSpPr/>
                <p:nvPr/>
              </p:nvSpPr>
              <p:spPr>
                <a:xfrm>
                  <a:off x="4530600" y="1834920"/>
                  <a:ext cx="1647360" cy="1737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43040" y="1447920"/>
                <a:ext cx="202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HT Technology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359320" y="3584520"/>
                <a:ext cx="0" cy="2235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30600" y="3808440"/>
                <a:ext cx="1647720" cy="0"/>
              </a:xfrm>
              <a:prstGeom prst="line">
                <a:avLst/>
              </a:prstGeom>
              <a:ln w="792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4782960" y="1931760"/>
                <a:ext cx="495360" cy="499320"/>
                <a:chOff x="4782960" y="1931760"/>
                <a:chExt cx="495360" cy="49932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4782960" y="1931760"/>
                  <a:ext cx="495360" cy="24768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908960" y="197712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782960" y="2177640"/>
                  <a:ext cx="495360" cy="23904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855320" y="2217600"/>
                  <a:ext cx="3495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5402160" y="1931760"/>
                <a:ext cx="495360" cy="499320"/>
                <a:chOff x="5402160" y="1931760"/>
                <a:chExt cx="495360" cy="4993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5402160" y="1931760"/>
                  <a:ext cx="495360" cy="24768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532120" y="197712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402160" y="2177640"/>
                  <a:ext cx="495360" cy="23904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474520" y="2217600"/>
                  <a:ext cx="3495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4651200" y="2506680"/>
                <a:ext cx="1425600" cy="94104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6629400" y="1447920"/>
              <a:ext cx="2286000" cy="2479680"/>
              <a:chOff x="6629400" y="1447920"/>
              <a:chExt cx="2286000" cy="2479680"/>
            </a:xfrm>
          </p:grpSpPr>
          <p:sp>
            <p:nvSpPr>
              <p:cNvPr id="819" name=""/>
              <p:cNvSpPr/>
              <p:nvPr/>
            </p:nvSpPr>
            <p:spPr>
              <a:xfrm>
                <a:off x="6629400" y="1447920"/>
                <a:ext cx="2286000" cy="2479680"/>
              </a:xfrm>
              <a:prstGeom prst="rect">
                <a:avLst/>
              </a:prstGeom>
              <a:solidFill>
                <a:srgbClr val="0860a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6781680" y="1828800"/>
                <a:ext cx="1981080" cy="1755720"/>
                <a:chOff x="6781680" y="1828800"/>
                <a:chExt cx="1981080" cy="17557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6800760" y="1854720"/>
                  <a:ext cx="1962000" cy="172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2" name=""/>
                <p:cNvGrpSpPr/>
                <p:nvPr/>
              </p:nvGrpSpPr>
              <p:grpSpPr>
                <a:xfrm>
                  <a:off x="6781680" y="1828800"/>
                  <a:ext cx="1962360" cy="1738080"/>
                  <a:chOff x="6781680" y="1828800"/>
                  <a:chExt cx="1962360" cy="173808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>
                    <a:off x="6781680" y="1828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781680" y="1837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781680" y="1846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6781680" y="1854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781680" y="1863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781680" y="1872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781680" y="188064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781680" y="1890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781680" y="1898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781680" y="1907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6781680" y="1915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781680" y="1924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781680" y="1933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781680" y="1942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781680" y="1950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781680" y="1959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781680" y="1968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781680" y="1976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781680" y="1985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781680" y="1994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781680" y="2002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781680" y="2011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781680" y="2019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81680" y="2028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781680" y="2037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781680" y="2045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781680" y="2054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781680" y="2063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781680" y="2071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781680" y="2080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781680" y="2089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781680" y="2098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781680" y="2106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781680" y="2115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6781680" y="2124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781680" y="213264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6781680" y="2142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781680" y="2150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781680" y="2159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6781680" y="2168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781680" y="2176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6781680" y="2185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6781680" y="2194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6781680" y="2202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6781680" y="2211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781680" y="2220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781680" y="2228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781680" y="2237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781680" y="2246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6781680" y="2254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6781680" y="2263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6781680" y="2271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6781680" y="2280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6781680" y="2289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6781680" y="2297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781680" y="2306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781680" y="2315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781680" y="2323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6781680" y="2332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6781680" y="2341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6781680" y="2350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6781680" y="2358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6781680" y="2367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6781680" y="2376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6781680" y="2384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6781680" y="239328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6781680" y="2403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6781680" y="2411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6781680" y="2420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781680" y="2428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781680" y="2437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781680" y="2446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6781680" y="2454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6781680" y="2463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6781680" y="2472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6781680" y="2480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6781680" y="2489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6781680" y="2498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6781680" y="2506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781680" y="2515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781680" y="2523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781680" y="2532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6781680" y="2541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6781680" y="2549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6781680" y="2558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781680" y="2567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6781680" y="2576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781680" y="2584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6781680" y="2593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81680" y="2602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6781680" y="2610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781680" y="2619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6781680" y="2628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6781680" y="2636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6781680" y="2645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6781680" y="265428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781680" y="2663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6781680" y="2672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6781680" y="2680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6781680" y="2689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6781680" y="2698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6781680" y="2706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6781680" y="2715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6781680" y="2724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6781680" y="2732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6781680" y="2741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6781680" y="2750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781680" y="2758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6781680" y="2767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781680" y="2775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6781680" y="2784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81680" y="2793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6781680" y="2802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6781680" y="2810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781680" y="2819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6781680" y="2828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6781680" y="2836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6781680" y="2845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6781680" y="2854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6781680" y="2862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6781680" y="2871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6781680" y="2880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781680" y="2889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781680" y="2897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781680" y="290628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781680" y="2915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6781680" y="2924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781680" y="2932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781680" y="2941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6781680" y="2950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6781680" y="2958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781680" y="2967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6781680" y="2976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81680" y="2984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6781680" y="2993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781680" y="3002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6781680" y="3010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6781680" y="3019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6781680" y="3028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6781680" y="3036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6781680" y="3045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6781680" y="3054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781680" y="3062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781680" y="3071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6781680" y="3080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6781680" y="3088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6781680" y="3097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6781680" y="3106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781680" y="3115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6781680" y="3123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781680" y="3132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781680" y="3141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781680" y="3149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781680" y="3158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6781680" y="316692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81680" y="3176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6781680" y="3184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6781680" y="3193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781680" y="3202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6781680" y="3210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781680" y="3219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6781680" y="3228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6781680" y="3236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6781680" y="3245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6781680" y="3254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6781680" y="3263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6781680" y="3271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6781680" y="3280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6781680" y="3288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6781680" y="3297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6781680" y="3306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6781680" y="33148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6781680" y="33235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6781680" y="33321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6781680" y="3340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781680" y="33498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781680" y="33584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81680" y="33670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781680" y="33757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6781680" y="33843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781680" y="33930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781680" y="34016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781680" y="3410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781680" y="3418920"/>
                    <a:ext cx="1962360" cy="9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781680" y="34282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781680" y="34369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781680" y="34455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781680" y="34542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781680" y="34628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6781680" y="34714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6781680" y="3480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6781680" y="34891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6781680" y="34977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6781680" y="35064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6781680" y="35150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6781680" y="352368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781680" y="353232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781680" y="354096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6781680" y="354960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81680" y="3558240"/>
                    <a:ext cx="1962360" cy="8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24a8"/>
                      </a:gs>
                      <a:gs pos="100000">
                        <a:srgbClr val="00104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3" name=""/>
                <p:cNvSpPr/>
                <p:nvPr/>
              </p:nvSpPr>
              <p:spPr>
                <a:xfrm>
                  <a:off x="6781680" y="1828800"/>
                  <a:ext cx="1962360" cy="173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24a8"/>
                    </a:gs>
                    <a:gs pos="100000">
                      <a:srgbClr val="00104d"/>
                    </a:gs>
                  </a:gsLst>
                  <a:lin ang="5400000"/>
                </a:gradFill>
                <a:ln cap="rnd" w="63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"/>
              <p:cNvSpPr/>
              <p:nvPr/>
            </p:nvSpPr>
            <p:spPr>
              <a:xfrm>
                <a:off x="7093080" y="144792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ual-Core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772400" y="3581280"/>
                <a:ext cx="0" cy="22392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858000" y="3809880"/>
                <a:ext cx="1905120" cy="0"/>
              </a:xfrm>
              <a:prstGeom prst="line">
                <a:avLst/>
              </a:prstGeom>
              <a:ln w="792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7848720" y="1905120"/>
                <a:ext cx="642600" cy="519480"/>
                <a:chOff x="7848720" y="1905120"/>
                <a:chExt cx="642600" cy="51948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7848720" y="1905120"/>
                  <a:ext cx="642600" cy="264960"/>
                </a:xfrm>
                <a:prstGeom prst="rect">
                  <a:avLst/>
                </a:prstGeom>
                <a:solidFill>
                  <a:srgbClr val="a6cae1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8049240" y="1953720"/>
                  <a:ext cx="2034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848720" y="2167920"/>
                  <a:ext cx="642600" cy="255960"/>
                </a:xfrm>
                <a:prstGeom prst="rect">
                  <a:avLst/>
                </a:prstGeom>
                <a:solidFill>
                  <a:srgbClr val="567eb9"/>
                </a:solidFill>
                <a:ln cap="rnd"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958880" y="2211120"/>
                  <a:ext cx="4201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APIC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2" name=""/>
              <p:cNvSpPr/>
              <p:nvPr/>
            </p:nvSpPr>
            <p:spPr>
              <a:xfrm>
                <a:off x="6934320" y="2514600"/>
                <a:ext cx="749160" cy="91440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E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7848720" y="2514600"/>
              <a:ext cx="761760" cy="914400"/>
            </a:xfrm>
            <a:prstGeom prst="rect">
              <a:avLst/>
            </a:prstGeom>
            <a:gradFill rotWithShape="0">
              <a:gsLst>
                <a:gs pos="0">
                  <a:srgbClr val="0c2e86"/>
                </a:gs>
                <a:gs pos="100000">
                  <a:srgbClr val="05153d"/>
                </a:gs>
              </a:gsLst>
              <a:lin ang="5400000"/>
            </a:gradFill>
            <a:ln cap="rnd"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7010280" y="1905120"/>
              <a:ext cx="642600" cy="519480"/>
              <a:chOff x="7010280" y="1905120"/>
              <a:chExt cx="642600" cy="519480"/>
            </a:xfrm>
          </p:grpSpPr>
          <p:sp>
            <p:nvSpPr>
              <p:cNvPr id="1035" name=""/>
              <p:cNvSpPr/>
              <p:nvPr/>
            </p:nvSpPr>
            <p:spPr>
              <a:xfrm>
                <a:off x="7010280" y="1905120"/>
                <a:ext cx="642600" cy="264960"/>
              </a:xfrm>
              <a:prstGeom prst="rect">
                <a:avLst/>
              </a:prstGeom>
              <a:solidFill>
                <a:srgbClr val="a6cae1"/>
              </a:soli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210800" y="1953720"/>
                <a:ext cx="203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010280" y="2167920"/>
                <a:ext cx="642600" cy="255960"/>
              </a:xfrm>
              <a:prstGeom prst="rect">
                <a:avLst/>
              </a:prstGeom>
              <a:solidFill>
                <a:srgbClr val="567eb9"/>
              </a:solidFill>
              <a:ln cap="rnd"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20440" y="2211120"/>
                <a:ext cx="42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APIC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"/>
          <p:cNvSpPr/>
          <p:nvPr/>
        </p:nvSpPr>
        <p:spPr>
          <a:xfrm>
            <a:off x="4572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wer of parallelism - seen in Intel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" y="4876920"/>
            <a:ext cx="8458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optimized for DP will perform well on HT Technology and Dual-Co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threading is required for maximizing application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threaded apps will not run faster but benefit while multitasking (running multiple single threaded app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6A8F-7AE5-4AAE-9AFB-3C20A13762A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319E3-8CA8-466B-980A-834C6AE20E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"/>
          <p:cNvGrpSpPr/>
          <p:nvPr/>
        </p:nvGrpSpPr>
        <p:grpSpPr>
          <a:xfrm>
            <a:off x="1454040" y="2008080"/>
            <a:ext cx="592200" cy="2470320"/>
            <a:chOff x="1454040" y="2008080"/>
            <a:chExt cx="592200" cy="2470320"/>
          </a:xfrm>
        </p:grpSpPr>
        <p:sp>
          <p:nvSpPr>
            <p:cNvPr id="1042" name=""/>
            <p:cNvSpPr/>
            <p:nvPr/>
          </p:nvSpPr>
          <p:spPr>
            <a:xfrm>
              <a:off x="1454040" y="2008080"/>
              <a:ext cx="592200" cy="2470320"/>
            </a:xfrm>
            <a:prstGeom prst="rect">
              <a:avLst/>
            </a:prstGeom>
            <a:solidFill>
              <a:srgbClr val="0860a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ff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41520" y="20955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41520" y="21718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541520" y="224784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541520" y="23241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41520" y="24004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541520" y="25509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41520" y="26272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41520" y="270360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41520" y="285444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541520" y="293040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541520" y="300672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41520" y="308304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541520" y="31575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541520" y="32338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541520" y="338616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541520" y="346248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41520" y="353700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541520" y="3613320"/>
              <a:ext cx="415800" cy="0"/>
            </a:xfrm>
            <a:prstGeom prst="line">
              <a:avLst/>
            </a:prstGeom>
            <a:ln w="25560">
              <a:solidFill>
                <a:srgbClr val="1d0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41520" y="3689280"/>
              <a:ext cx="415800" cy="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41520" y="3765600"/>
              <a:ext cx="415800" cy="0"/>
            </a:xfrm>
            <a:prstGeom prst="line">
              <a:avLst/>
            </a:prstGeom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41520" y="3916440"/>
              <a:ext cx="415800" cy="0"/>
            </a:xfrm>
            <a:prstGeom prst="line">
              <a:avLst/>
            </a:prstGeom>
            <a:ln w="255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1520" y="3992400"/>
              <a:ext cx="41580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41520" y="4068720"/>
              <a:ext cx="415800" cy="0"/>
            </a:xfrm>
            <a:prstGeom prst="line">
              <a:avLst/>
            </a:prstGeom>
            <a:ln w="2556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41520" y="4143240"/>
              <a:ext cx="415800" cy="0"/>
            </a:xfrm>
            <a:prstGeom prst="line">
              <a:avLst/>
            </a:prstGeom>
            <a:ln w="25560">
              <a:solidFill>
                <a:srgbClr val="aa01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541520" y="4297320"/>
              <a:ext cx="415800" cy="0"/>
            </a:xfrm>
            <a:prstGeom prst="line">
              <a:avLst/>
            </a:prstGeom>
            <a:ln w="25560">
              <a:solidFill>
                <a:srgbClr val="a6ca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41520" y="4373640"/>
              <a:ext cx="415800" cy="0"/>
            </a:xfrm>
            <a:prstGeom prst="line">
              <a:avLst/>
            </a:prstGeom>
            <a:ln w="25560">
              <a:solidFill>
                <a:srgbClr val="f5e6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98960" y="1558800"/>
            <a:ext cx="25455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quential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3880" y="4768920"/>
            <a:ext cx="284976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structions are </a:t>
            </a:r>
            <a:r>
              <a:rPr b="1" lang="en-US" sz="1600" spc="-1" strike="noStrike">
                <a:solidFill>
                  <a:srgbClr val="f5e647"/>
                </a:solidFill>
                <a:latin typeface="Arial"/>
              </a:rPr>
              <a:t>sequentia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most instructions </a:t>
            </a:r>
            <a:r>
              <a:rPr b="1" lang="en-US" sz="1600" spc="-1" strike="noStrike">
                <a:solidFill>
                  <a:srgbClr val="f5e647"/>
                </a:solidFill>
                <a:latin typeface="Arial"/>
              </a:rPr>
              <a:t>depen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on completion of the previous instru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010280" y="2695680"/>
            <a:ext cx="13338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ion Pipe (Eng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3854520" y="2546280"/>
            <a:ext cx="3141720" cy="1020960"/>
            <a:chOff x="3854520" y="2546280"/>
            <a:chExt cx="3141720" cy="1020960"/>
          </a:xfrm>
        </p:grpSpPr>
        <p:grpSp>
          <p:nvGrpSpPr>
            <p:cNvPr id="1073" name=""/>
            <p:cNvGrpSpPr/>
            <p:nvPr/>
          </p:nvGrpSpPr>
          <p:grpSpPr>
            <a:xfrm>
              <a:off x="3854520" y="2546280"/>
              <a:ext cx="3141720" cy="412920"/>
              <a:chOff x="3854520" y="2546280"/>
              <a:chExt cx="3141720" cy="412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3854520" y="2546280"/>
                <a:ext cx="3141720" cy="409680"/>
              </a:xfrm>
              <a:custGeom>
                <a:avLst/>
                <a:gdLst>
                  <a:gd name="textAreaLeft" fmla="*/ 690840 w 3141720"/>
                  <a:gd name="textAreaRight" fmla="*/ 2450880 w 3141720"/>
                  <a:gd name="textAreaTop" fmla="*/ 90000 h 409680"/>
                  <a:gd name="textAreaBottom" fmla="*/ 319680 h 4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33"/>
                  </a:gs>
                  <a:gs pos="100000">
                    <a:srgbClr val="38001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346640" y="2753640"/>
                <a:ext cx="2186280" cy="205560"/>
              </a:xfrm>
              <a:prstGeom prst="ellipse">
                <a:avLst/>
              </a:prstGeom>
              <a:gradFill rotWithShape="0">
                <a:gsLst>
                  <a:gs pos="0">
                    <a:srgbClr val="660033"/>
                  </a:gs>
                  <a:gs pos="100000">
                    <a:srgbClr val="38001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4638600" y="2647800"/>
              <a:ext cx="370080" cy="919440"/>
              <a:chOff x="4638600" y="2647800"/>
              <a:chExt cx="370080" cy="919440"/>
            </a:xfrm>
          </p:grpSpPr>
          <p:sp>
            <p:nvSpPr>
              <p:cNvPr id="1077" name=""/>
              <p:cNvSpPr/>
              <p:nvPr/>
            </p:nvSpPr>
            <p:spPr>
              <a:xfrm>
                <a:off x="4638600" y="334152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638600" y="345276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638600" y="264780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638600" y="275904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638600" y="287496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638600" y="2986200"/>
                <a:ext cx="37008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638600" y="3108240"/>
                <a:ext cx="37008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638600" y="3228840"/>
                <a:ext cx="37008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5054760" y="2646360"/>
              <a:ext cx="369720" cy="919080"/>
              <a:chOff x="5054760" y="2646360"/>
              <a:chExt cx="369720" cy="919080"/>
            </a:xfrm>
          </p:grpSpPr>
          <p:sp>
            <p:nvSpPr>
              <p:cNvPr id="1086" name=""/>
              <p:cNvSpPr/>
              <p:nvPr/>
            </p:nvSpPr>
            <p:spPr>
              <a:xfrm>
                <a:off x="5054760" y="334008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054760" y="345132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54760" y="264636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54760" y="275760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054760" y="287352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054760" y="298440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054760" y="3106800"/>
                <a:ext cx="36972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054760" y="3227400"/>
                <a:ext cx="36972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5470560" y="2644920"/>
              <a:ext cx="369720" cy="919080"/>
              <a:chOff x="5470560" y="2644920"/>
              <a:chExt cx="369720" cy="919080"/>
            </a:xfrm>
          </p:grpSpPr>
          <p:sp>
            <p:nvSpPr>
              <p:cNvPr id="1095" name=""/>
              <p:cNvSpPr/>
              <p:nvPr/>
            </p:nvSpPr>
            <p:spPr>
              <a:xfrm>
                <a:off x="5470560" y="333864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470560" y="344952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470560" y="264492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470560" y="275580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470560" y="2871720"/>
                <a:ext cx="36972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470560" y="298296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470560" y="3105000"/>
                <a:ext cx="369720" cy="11304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470560" y="3225960"/>
                <a:ext cx="36972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5886360" y="2643120"/>
              <a:ext cx="370080" cy="919080"/>
              <a:chOff x="5886360" y="2643120"/>
              <a:chExt cx="370080" cy="919080"/>
            </a:xfrm>
          </p:grpSpPr>
          <p:sp>
            <p:nvSpPr>
              <p:cNvPr id="1104" name=""/>
              <p:cNvSpPr/>
              <p:nvPr/>
            </p:nvSpPr>
            <p:spPr>
              <a:xfrm>
                <a:off x="5886360" y="333684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86360" y="3448080"/>
                <a:ext cx="37008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86360" y="264312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86360" y="2754360"/>
                <a:ext cx="37008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86360" y="2870280"/>
                <a:ext cx="370080" cy="11412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86360" y="2981160"/>
                <a:ext cx="370080" cy="1144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86360" y="3103560"/>
                <a:ext cx="37008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86360" y="3224160"/>
                <a:ext cx="370080" cy="112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"/>
          <p:cNvGrpSpPr/>
          <p:nvPr/>
        </p:nvGrpSpPr>
        <p:grpSpPr>
          <a:xfrm>
            <a:off x="471600" y="4168440"/>
            <a:ext cx="976320" cy="397440"/>
            <a:chOff x="471600" y="4168440"/>
            <a:chExt cx="976320" cy="397440"/>
          </a:xfrm>
        </p:grpSpPr>
        <p:sp>
          <p:nvSpPr>
            <p:cNvPr id="1113" name=""/>
            <p:cNvSpPr/>
            <p:nvPr/>
          </p:nvSpPr>
          <p:spPr>
            <a:xfrm>
              <a:off x="471600" y="4168440"/>
              <a:ext cx="736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r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89000" y="4371840"/>
              <a:ext cx="358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80960" y="3863880"/>
            <a:ext cx="1003320" cy="397440"/>
            <a:chOff x="480960" y="3863880"/>
            <a:chExt cx="1003320" cy="397440"/>
          </a:xfrm>
        </p:grpSpPr>
        <p:sp>
          <p:nvSpPr>
            <p:cNvPr id="1116" name=""/>
            <p:cNvSpPr/>
            <p:nvPr/>
          </p:nvSpPr>
          <p:spPr>
            <a:xfrm>
              <a:off x="480960" y="3863880"/>
              <a:ext cx="73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74600" y="4100400"/>
              <a:ext cx="409680" cy="136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038320" y="1262160"/>
            <a:ext cx="2166840" cy="3286080"/>
            <a:chOff x="2038320" y="1262160"/>
            <a:chExt cx="2166840" cy="3286080"/>
          </a:xfrm>
        </p:grpSpPr>
        <p:grpSp>
          <p:nvGrpSpPr>
            <p:cNvPr id="1119" name=""/>
            <p:cNvGrpSpPr/>
            <p:nvPr/>
          </p:nvGrpSpPr>
          <p:grpSpPr>
            <a:xfrm>
              <a:off x="3789360" y="1371600"/>
              <a:ext cx="415800" cy="761400"/>
              <a:chOff x="3789360" y="1371600"/>
              <a:chExt cx="415800" cy="761400"/>
            </a:xfrm>
          </p:grpSpPr>
          <p:sp>
            <p:nvSpPr>
              <p:cNvPr id="1120" name=""/>
              <p:cNvSpPr/>
              <p:nvPr/>
            </p:nvSpPr>
            <p:spPr>
              <a:xfrm>
                <a:off x="3789360" y="1371600"/>
                <a:ext cx="415800" cy="0"/>
              </a:xfrm>
              <a:prstGeom prst="line">
                <a:avLst/>
              </a:prstGeom>
              <a:ln w="76320">
                <a:solidFill>
                  <a:srgbClr val="567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89360" y="1557720"/>
                <a:ext cx="415800" cy="0"/>
              </a:xfrm>
              <a:prstGeom prst="line">
                <a:avLst/>
              </a:prstGeom>
              <a:ln w="76320">
                <a:solidFill>
                  <a:srgbClr val="aa01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789360" y="1942560"/>
                <a:ext cx="415800" cy="0"/>
              </a:xfrm>
              <a:prstGeom prst="line">
                <a:avLst/>
              </a:prstGeom>
              <a:ln w="76320">
                <a:solidFill>
                  <a:srgbClr val="a6ca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789360" y="2133000"/>
                <a:ext cx="415800" cy="0"/>
              </a:xfrm>
              <a:prstGeom prst="line">
                <a:avLst/>
              </a:prstGeom>
              <a:ln w="76320">
                <a:solidFill>
                  <a:srgbClr val="f5e6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2257560" y="1714680"/>
              <a:ext cx="1409400" cy="2833560"/>
            </a:xfrm>
            <a:custGeom>
              <a:avLst/>
              <a:gdLst/>
              <a:ahLst/>
              <a:rect l="l" t="t" r="r" b="b"/>
              <a:pathLst>
                <a:path w="888" h="1785">
                  <a:moveTo>
                    <a:pt x="0" y="1590"/>
                  </a:moveTo>
                  <a:cubicBezTo>
                    <a:pt x="253" y="1687"/>
                    <a:pt x="506" y="1785"/>
                    <a:pt x="558" y="1572"/>
                  </a:cubicBezTo>
                  <a:cubicBezTo>
                    <a:pt x="610" y="1359"/>
                    <a:pt x="257" y="574"/>
                    <a:pt x="312" y="312"/>
                  </a:cubicBezTo>
                  <a:cubicBezTo>
                    <a:pt x="367" y="50"/>
                    <a:pt x="627" y="25"/>
                    <a:pt x="888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38320" y="4024440"/>
              <a:ext cx="219240" cy="428400"/>
            </a:xfrm>
            <a:custGeom>
              <a:avLst/>
              <a:gdLst>
                <a:gd name="textAreaLeft" fmla="*/ 0 w 219240"/>
                <a:gd name="textAreaRight" fmla="*/ 79200 w 219240"/>
                <a:gd name="textAreaTop" fmla="*/ 11160 h 428400"/>
                <a:gd name="textAreaBottom" fmla="*/ 41724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3596400" y="1262160"/>
              <a:ext cx="219240" cy="971280"/>
            </a:xfrm>
            <a:custGeom>
              <a:avLst/>
              <a:gdLst>
                <a:gd name="textAreaLeft" fmla="*/ -360 w 219240"/>
                <a:gd name="textAreaRight" fmla="*/ 78840 w 219240"/>
                <a:gd name="textAreaTop" fmla="*/ 25200 h 971280"/>
                <a:gd name="textAreaBottom" fmla="*/ 946080 h 9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4632480" y="2133720"/>
            <a:ext cx="1654200" cy="0"/>
            <a:chOff x="4632480" y="2133720"/>
            <a:chExt cx="1654200" cy="0"/>
          </a:xfrm>
        </p:grpSpPr>
        <p:sp>
          <p:nvSpPr>
            <p:cNvPr id="1128" name=""/>
            <p:cNvSpPr/>
            <p:nvPr/>
          </p:nvSpPr>
          <p:spPr>
            <a:xfrm>
              <a:off x="5870520" y="2133720"/>
              <a:ext cx="416160" cy="0"/>
            </a:xfrm>
            <a:prstGeom prst="line">
              <a:avLst/>
            </a:prstGeom>
            <a:ln w="7632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60840" y="2133720"/>
              <a:ext cx="416160" cy="0"/>
            </a:xfrm>
            <a:prstGeom prst="line">
              <a:avLst/>
            </a:prstGeom>
            <a:ln w="76320">
              <a:solidFill>
                <a:srgbClr val="aa01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046840" y="2133720"/>
              <a:ext cx="415800" cy="0"/>
            </a:xfrm>
            <a:prstGeom prst="line">
              <a:avLst/>
            </a:prstGeom>
            <a:ln w="76320">
              <a:solidFill>
                <a:srgbClr val="a6ca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32480" y="2133720"/>
              <a:ext cx="415800" cy="0"/>
            </a:xfrm>
            <a:prstGeom prst="line">
              <a:avLst/>
            </a:prstGeom>
            <a:ln w="76320">
              <a:solidFill>
                <a:srgbClr val="f5e6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4640400" y="2643120"/>
            <a:ext cx="1617480" cy="119160"/>
            <a:chOff x="4640400" y="2643120"/>
            <a:chExt cx="1617480" cy="119160"/>
          </a:xfrm>
        </p:grpSpPr>
        <p:sp>
          <p:nvSpPr>
            <p:cNvPr id="1133" name=""/>
            <p:cNvSpPr/>
            <p:nvPr/>
          </p:nvSpPr>
          <p:spPr>
            <a:xfrm>
              <a:off x="4640400" y="2647800"/>
              <a:ext cx="369720" cy="114480"/>
            </a:xfrm>
            <a:prstGeom prst="rect">
              <a:avLst/>
            </a:prstGeom>
            <a:gradFill rotWithShape="0">
              <a:gsLst>
                <a:gs pos="0">
                  <a:srgbClr val="706a20"/>
                </a:gs>
                <a:gs pos="50000">
                  <a:srgbClr val="f5e647"/>
                </a:gs>
                <a:gs pos="100000">
                  <a:srgbClr val="706a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056200" y="2646360"/>
              <a:ext cx="369720" cy="114480"/>
            </a:xfrm>
            <a:prstGeom prst="rect">
              <a:avLst/>
            </a:prstGeom>
            <a:gradFill rotWithShape="0">
              <a:gsLst>
                <a:gs pos="0">
                  <a:srgbClr val="4c5d67"/>
                </a:gs>
                <a:gs pos="50000">
                  <a:srgbClr val="a6cae1"/>
                </a:gs>
                <a:gs pos="100000">
                  <a:srgbClr val="4c5d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472000" y="2644920"/>
              <a:ext cx="370080" cy="114120"/>
            </a:xfrm>
            <a:prstGeom prst="rect">
              <a:avLst/>
            </a:prstGeom>
            <a:gradFill rotWithShape="0">
              <a:gsLst>
                <a:gs pos="0">
                  <a:srgbClr val="4e0023"/>
                </a:gs>
                <a:gs pos="50000">
                  <a:srgbClr val="aa014c"/>
                </a:gs>
                <a:gs pos="100000">
                  <a:srgbClr val="4e00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888160" y="2643120"/>
              <a:ext cx="369720" cy="114480"/>
            </a:xfrm>
            <a:prstGeom prst="rect">
              <a:avLst/>
            </a:prstGeom>
            <a:gradFill rotWithShape="0">
              <a:gsLst>
                <a:gs pos="0">
                  <a:srgbClr val="273a55"/>
                </a:gs>
                <a:gs pos="50000">
                  <a:srgbClr val="567eb9"/>
                </a:gs>
                <a:gs pos="100000">
                  <a:srgbClr val="273a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4435920" y="1266840"/>
            <a:ext cx="1468440" cy="761760"/>
            <a:chOff x="4435920" y="1266840"/>
            <a:chExt cx="1468440" cy="761760"/>
          </a:xfrm>
        </p:grpSpPr>
        <p:sp>
          <p:nvSpPr>
            <p:cNvPr id="1138" name=""/>
            <p:cNvSpPr/>
            <p:nvPr/>
          </p:nvSpPr>
          <p:spPr>
            <a:xfrm flipV="1">
              <a:off x="5535360" y="1266840"/>
              <a:ext cx="369000" cy="191520"/>
            </a:xfrm>
            <a:prstGeom prst="line">
              <a:avLst/>
            </a:prstGeom>
            <a:ln w="76320">
              <a:solidFill>
                <a:srgbClr val="567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5171760" y="1455480"/>
              <a:ext cx="369000" cy="191520"/>
            </a:xfrm>
            <a:prstGeom prst="line">
              <a:avLst/>
            </a:prstGeom>
            <a:ln w="76320">
              <a:solidFill>
                <a:srgbClr val="aa01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4803840" y="1646280"/>
              <a:ext cx="369000" cy="191520"/>
            </a:xfrm>
            <a:prstGeom prst="line">
              <a:avLst/>
            </a:prstGeom>
            <a:ln w="76320">
              <a:solidFill>
                <a:srgbClr val="a6ca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435920" y="1837080"/>
              <a:ext cx="369000" cy="191520"/>
            </a:xfrm>
            <a:prstGeom prst="line">
              <a:avLst/>
            </a:prstGeom>
            <a:ln w="76320">
              <a:solidFill>
                <a:srgbClr val="f5e6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 rot="5400000">
            <a:off x="4543200" y="1380600"/>
            <a:ext cx="819000" cy="1257480"/>
          </a:xfrm>
          <a:custGeom>
            <a:avLst/>
            <a:gdLst>
              <a:gd name="textAreaLeft" fmla="*/ 0 w 819000"/>
              <a:gd name="textAreaRight" fmla="*/ 819360 w 81900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727440" y="3790800"/>
            <a:ext cx="4248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quential events loaded into the execution pipe cannot be executed in parallel due to </a:t>
            </a:r>
            <a:r>
              <a:rPr b="1" lang="en-US" sz="1600" spc="-1" strike="noStrike">
                <a:solidFill>
                  <a:srgbClr val="f5e647"/>
                </a:solidFill>
                <a:latin typeface="Arial"/>
              </a:rPr>
              <a:t>dependenc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727440" y="4791240"/>
            <a:ext cx="4667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time</a:t>
            </a:r>
            <a:r>
              <a:rPr b="1" lang="en-US" sz="1600" spc="-1" strike="noStrike">
                <a:solidFill>
                  <a:srgbClr val="f5e647"/>
                </a:solidFill>
                <a:latin typeface="Arial"/>
              </a:rPr>
              <a:t> reorder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can overcome the dependencies by changing the execution sequence and enable more parallel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4638600" y="2633760"/>
            <a:ext cx="1619280" cy="720720"/>
            <a:chOff x="4638600" y="2633760"/>
            <a:chExt cx="1619280" cy="720720"/>
          </a:xfrm>
        </p:grpSpPr>
        <p:grpSp>
          <p:nvGrpSpPr>
            <p:cNvPr id="1146" name=""/>
            <p:cNvGrpSpPr/>
            <p:nvPr/>
          </p:nvGrpSpPr>
          <p:grpSpPr>
            <a:xfrm>
              <a:off x="4640400" y="2633760"/>
              <a:ext cx="1617480" cy="118440"/>
              <a:chOff x="4640400" y="2633760"/>
              <a:chExt cx="1617480" cy="118440"/>
            </a:xfrm>
          </p:grpSpPr>
          <p:sp>
            <p:nvSpPr>
              <p:cNvPr id="1147" name=""/>
              <p:cNvSpPr/>
              <p:nvPr/>
            </p:nvSpPr>
            <p:spPr>
              <a:xfrm>
                <a:off x="4640400" y="263808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8e8e"/>
                  </a:gs>
                  <a:gs pos="50000">
                    <a:srgbClr val="00ffff"/>
                  </a:gs>
                  <a:gs pos="100000">
                    <a:srgbClr val="008e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56200" y="263664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8e8e"/>
                  </a:gs>
                  <a:gs pos="50000">
                    <a:srgbClr val="00ffff"/>
                  </a:gs>
                  <a:gs pos="100000">
                    <a:srgbClr val="008e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72000" y="2635200"/>
                <a:ext cx="370080" cy="113760"/>
              </a:xfrm>
              <a:prstGeom prst="rect">
                <a:avLst/>
              </a:prstGeom>
              <a:gradFill rotWithShape="0">
                <a:gsLst>
                  <a:gs pos="0">
                    <a:srgbClr val="008e8e"/>
                  </a:gs>
                  <a:gs pos="50000">
                    <a:srgbClr val="00ffff"/>
                  </a:gs>
                  <a:gs pos="100000">
                    <a:srgbClr val="008e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88160" y="2633760"/>
                <a:ext cx="369720" cy="114120"/>
              </a:xfrm>
              <a:prstGeom prst="rect">
                <a:avLst/>
              </a:prstGeom>
              <a:gradFill rotWithShape="0">
                <a:gsLst>
                  <a:gs pos="0">
                    <a:srgbClr val="008e8e"/>
                  </a:gs>
                  <a:gs pos="50000">
                    <a:srgbClr val="00ffff"/>
                  </a:gs>
                  <a:gs pos="100000">
                    <a:srgbClr val="008e8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1" name=""/>
            <p:cNvSpPr/>
            <p:nvPr/>
          </p:nvSpPr>
          <p:spPr>
            <a:xfrm>
              <a:off x="4638600" y="3233880"/>
              <a:ext cx="370080" cy="114120"/>
            </a:xfrm>
            <a:prstGeom prst="rect">
              <a:avLst/>
            </a:prstGeom>
            <a:gradFill rotWithShape="0">
              <a:gsLst>
                <a:gs pos="0">
                  <a:srgbClr val="706a20"/>
                </a:gs>
                <a:gs pos="50000">
                  <a:srgbClr val="f5e647"/>
                </a:gs>
                <a:gs pos="100000">
                  <a:srgbClr val="706a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56200" y="3098880"/>
              <a:ext cx="369720" cy="114120"/>
            </a:xfrm>
            <a:prstGeom prst="rect">
              <a:avLst/>
            </a:prstGeom>
            <a:gradFill rotWithShape="0">
              <a:gsLst>
                <a:gs pos="0">
                  <a:srgbClr val="4c5d67"/>
                </a:gs>
                <a:gs pos="50000">
                  <a:srgbClr val="a6cae1"/>
                </a:gs>
                <a:gs pos="100000">
                  <a:srgbClr val="4c5d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472000" y="3240000"/>
              <a:ext cx="370080" cy="114480"/>
            </a:xfrm>
            <a:prstGeom prst="rect">
              <a:avLst/>
            </a:prstGeom>
            <a:gradFill rotWithShape="0">
              <a:gsLst>
                <a:gs pos="0">
                  <a:srgbClr val="4e0023"/>
                </a:gs>
                <a:gs pos="50000">
                  <a:srgbClr val="aa014c"/>
                </a:gs>
                <a:gs pos="100000">
                  <a:srgbClr val="4e00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8160" y="2990880"/>
              <a:ext cx="369720" cy="114120"/>
            </a:xfrm>
            <a:prstGeom prst="rect">
              <a:avLst/>
            </a:prstGeom>
            <a:gradFill rotWithShape="0">
              <a:gsLst>
                <a:gs pos="0">
                  <a:srgbClr val="273a55"/>
                </a:gs>
                <a:gs pos="50000">
                  <a:srgbClr val="567eb9"/>
                </a:gs>
                <a:gs pos="100000">
                  <a:srgbClr val="273a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87080" y="85320"/>
            <a:ext cx="8474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arallelism: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chine code execu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[Out-of-order execution engine in Duo Core]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B0F5-6543-4B59-8A80-9941C84D2DC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6DE60-D9D4-4306-9E11-EC3448FCB8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1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1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timization Techniqu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67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-core processor implementation (inherent parallelism) has significant impact on software appl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ll potential harnessed by programs that migrate to a threaded software mod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icient use of threads (kernel or system / user threads) is KEY to dramatically increase effective system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43E8-5D86-457E-9A40-21198D86E7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4994F-11FC-4274-9E3B-DC9FA842EBCB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aded Software Mod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licit Threa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Libra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X* thre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n32* AP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ssage Passing Interface (MP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iler Directed Threa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nMP* (portable shared memory parallelis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-parallel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15C3-9CAB-473F-85CE-77A45FA4EF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0834E-25A6-41D1-8694-CC212E5E5C2C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OSIX* thread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SIX.1c stand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 Language Inte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eads exist within the same 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reads are pe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explicit parent-child mod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eption: main(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EF02-8FD6-4852-979B-99E6C298B3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1A2A5-F0FE-4272-849E-3A98B156DCE7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456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core processors – Over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ism – impact on multi-co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tion techniq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 Support / SW too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1760" indent="-2239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2C6E9-E752-48C3-9180-1AA3E3ADBA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AE80B-0474-41EF-A5B3-9F5C3FA8F67F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28600" y="301680"/>
            <a:ext cx="77580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reating POSIX* Thread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63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43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tion(s) are explicitly mapped to created thr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ead handle – holds all related data on created thread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"/>
          <p:cNvSpPr/>
          <p:nvPr/>
        </p:nvSpPr>
        <p:spPr>
          <a:xfrm>
            <a:off x="762120" y="32767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33520" y="1371600"/>
            <a:ext cx="7086600" cy="2480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 pthread_create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thread_t* handle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 pthread_attr_t* attribut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oid *(*function) (void *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oid* arg 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461A-D64A-4ED4-9224-64E888ED81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663F5-39EA-4DB9-9B1D-7CE4179ED884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OSIX* threads – examp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"/>
          <p:cNvSpPr/>
          <p:nvPr/>
        </p:nvSpPr>
        <p:spPr>
          <a:xfrm>
            <a:off x="380880" y="1066680"/>
            <a:ext cx="7467840" cy="42087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include &lt;pthread.h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define NTHREADS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id test(void *arg) {printf (“Hello, world\n”)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 main(int argc, char *argv[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thread_t  h[NTHREAD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(int i=0; i&lt;NTHREADS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thread_create (&amp;h[i], NULL, (void *)test, NUL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B8EC-D88D-4956-8EB5-4626E2B9AE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10D5E-D897-4CD1-8B82-0507057A6291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essage Passing Interface (MPI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5800" indent="-68436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ssage Passing Interface (MPI) is a message passing library standard (based on MPI For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684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parallelism is explici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684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rts SMP/Workstation Clusters / heterogeneous networ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9D2E-F16D-449A-A92C-BAFC3E7033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6615C-9489-4A88-9F0D-2A7AF7AB7382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PI – examp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"/>
          <p:cNvSpPr/>
          <p:nvPr/>
        </p:nvSpPr>
        <p:spPr>
          <a:xfrm>
            <a:off x="380880" y="838080"/>
            <a:ext cx="8077320" cy="50317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include "mpi.h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#include &lt;stdio.h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 main(argc,arg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 argc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 *argv[];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 numtasks, rank, r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c = MPI_Init(&amp;argc,&amp;argv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(rc != MPI_SUCCESS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ntf ("Error starting MPI program. Terminating.\n"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I_Abort(MPI_COMM_WORLD, rc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I_Comm_size(MPI_COMM_WORLD,&amp;numtasks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I_Comm_rank(MPI_COMM_WORLD,&amp;rank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ntf ("Number of tasks= %d My rank= %d\n", numtasks,rank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******* do some work ******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I_Finaliz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6FF4-2A37-4CB6-B2A2-64EAE1F8F8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5C11D-3144-4235-88C1-4B816227D80F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enMP* </a:t>
            </a:r>
            <a:r>
              <a:rPr b="1" lang="en-US" sz="2800" spc="-1" strike="noStrike">
                <a:solidFill>
                  <a:srgbClr val="f5e647"/>
                </a:solidFill>
                <a:latin typeface="Verdana"/>
              </a:rPr>
              <a:t>[www.openmp.org]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Application Program Interface (API) for multi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ed, shared memory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r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I for Fortran 77, Fortran 90, C, and C++, on al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chitectures, including Unix* and Windows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ts val="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4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ndardiz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intly developed by major SW/HW vendor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ndardizes the last 15 years of symmetric multi-processing (SMP) experien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jor API 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iler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ntime Library Rout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ment Variab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B97B-8A23-49D7-B82B-BF7241A7EF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D9449-AC37-4B7F-B91C-FC811C0AC911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enMP* Programming Mod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Based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multi-threaded shared memory pro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lnSpc>
                <a:spcPct val="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7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icit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MP is an Explicit (not automatic) programming mod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mer has full control over parallel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k-Join Mod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s fork-join model of parallel execu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iler Directive Ba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l of OpenMP parallelism is specified through compiler directives imbedded in co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sted Parallelism Suppo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ynamic Thre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329D-1D13-4C5E-AF9A-DB16C40A8D9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C3086-E44B-489E-B223-8BA000E0FDDD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762120" y="1600200"/>
            <a:ext cx="8001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4000"/>
              </a:lnSpc>
              <a:spcBef>
                <a:spcPts val="901"/>
              </a:spcBef>
              <a:buClr>
                <a:srgbClr val="ff5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c00"/>
                </a:solidFill>
                <a:latin typeface="Arial"/>
              </a:rPr>
              <a:t>Master thre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pawns a team of threads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4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ism is added incrementally: i.e., the sequential program evolves into a parallel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18520" cy="6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k – Join Parallelism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0" name=""/>
          <p:cNvSpPr/>
          <p:nvPr/>
        </p:nvSpPr>
        <p:spPr>
          <a:xfrm>
            <a:off x="6400800" y="3341520"/>
            <a:ext cx="1523880" cy="1981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3341520"/>
            <a:ext cx="1600200" cy="1981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752480" y="3341520"/>
            <a:ext cx="1600200" cy="1981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073160" y="4260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216160" y="3828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16160" y="408780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216160" y="434808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216160" y="460692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1832040" y="3832200"/>
            <a:ext cx="374760" cy="425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832040" y="4090680"/>
            <a:ext cx="37476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835280" y="4267080"/>
            <a:ext cx="374400" cy="81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835280" y="4267080"/>
            <a:ext cx="374400" cy="339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978280" y="3835440"/>
            <a:ext cx="374400" cy="425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978280" y="4094280"/>
            <a:ext cx="37440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2975040" y="4264200"/>
            <a:ext cx="374760" cy="806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975040" y="4263840"/>
            <a:ext cx="374760" cy="3394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359160" y="4260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502160" y="3828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502160" y="408780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502160" y="434808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502160" y="460692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118040" y="3832200"/>
            <a:ext cx="374760" cy="4255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118040" y="4090680"/>
            <a:ext cx="37476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121280" y="4267080"/>
            <a:ext cx="374400" cy="81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121280" y="4267080"/>
            <a:ext cx="374400" cy="339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264280" y="3835440"/>
            <a:ext cx="374400" cy="4255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64280" y="4094280"/>
            <a:ext cx="37440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5261040" y="4264200"/>
            <a:ext cx="374760" cy="806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5261040" y="4263840"/>
            <a:ext cx="374760" cy="3394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645160" y="4260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788160" y="3828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788160" y="408780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788160" y="434808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788160" y="460692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6404040" y="3832200"/>
            <a:ext cx="374760" cy="425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6404040" y="4090680"/>
            <a:ext cx="37476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407280" y="4267080"/>
            <a:ext cx="374400" cy="810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407280" y="4267080"/>
            <a:ext cx="374400" cy="3398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550280" y="3835440"/>
            <a:ext cx="374400" cy="42552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550280" y="4094280"/>
            <a:ext cx="374400" cy="166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547040" y="4264200"/>
            <a:ext cx="374760" cy="806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547040" y="4263840"/>
            <a:ext cx="374760" cy="3394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502160" y="357012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502160" y="48657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18040" y="3573000"/>
            <a:ext cx="374760" cy="68436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121280" y="4267080"/>
            <a:ext cx="374400" cy="5986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64280" y="3576600"/>
            <a:ext cx="374400" cy="68436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261040" y="4264200"/>
            <a:ext cx="374760" cy="5983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931160" y="4260960"/>
            <a:ext cx="75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276720" y="55767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llel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6632640" y="5326200"/>
            <a:ext cx="450720" cy="45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2670120" y="5326200"/>
            <a:ext cx="1060560" cy="45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66760" y="477360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t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003640" y="532296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952560" y="4332240"/>
            <a:ext cx="450720" cy="45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5D9F-C212-4050-A563-F0FC27E9564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E0B57-4783-4957-8951-F10598F5E7D3}" type="datetime1">
              <a:rPr lang="en-US"/>
              <a:t>07/29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enMP* Pragma Syntax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constructs in OpenMP* are compiler directives or pragm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 and C++, the pragmas take the for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#pragma omp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construct [clause [clause]…]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Fortran, the directives take the for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!$OMP </a:t>
            </a:r>
            <a:r>
              <a:rPr b="0" i="1" lang="en-US" sz="2800" spc="-1" strike="noStrike">
                <a:solidFill>
                  <a:srgbClr val="ffff66"/>
                </a:solidFill>
                <a:latin typeface="Verdana"/>
              </a:rPr>
              <a:t>CONSTRUCT [CLAUSE [CLAUSE]…]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"/>
          <p:cNvSpPr/>
          <p:nvPr/>
        </p:nvSpPr>
        <p:spPr>
          <a:xfrm>
            <a:off x="6086520" y="6573960"/>
            <a:ext cx="3057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Intel and the Intel logo are trademarks or registered trademarks of Intel Corporation or its subsidiaries in the United States or other countrie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3C86-6CB9-4CB5-94AB-DD2FE5296E4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471FA-886B-4027-81F0-E1C425505A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905120" y="4114800"/>
            <a:ext cx="2895480" cy="1523880"/>
          </a:xfrm>
          <a:prstGeom prst="rect">
            <a:avLst/>
          </a:prstGeom>
          <a:solidFill>
            <a:srgbClr val="001e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447920" y="3809880"/>
            <a:ext cx="326376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/C++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#pragma omp parall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cae1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4e4fc"/>
                </a:solidFill>
                <a:latin typeface="Arial"/>
                <a:ea typeface="Arial"/>
              </a:rPr>
              <a:t>b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cae1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3156120"/>
            <a:ext cx="36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791320" y="1600200"/>
            <a:ext cx="3116160" cy="3978000"/>
            <a:chOff x="5791320" y="1600200"/>
            <a:chExt cx="3116160" cy="3978000"/>
          </a:xfrm>
        </p:grpSpPr>
        <p:sp>
          <p:nvSpPr>
            <p:cNvPr id="1242" name=""/>
            <p:cNvSpPr/>
            <p:nvPr/>
          </p:nvSpPr>
          <p:spPr>
            <a:xfrm>
              <a:off x="7337520" y="1600200"/>
              <a:ext cx="3492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53280" y="5343480"/>
              <a:ext cx="201600" cy="234720"/>
            </a:xfrm>
            <a:custGeom>
              <a:avLst/>
              <a:gdLst/>
              <a:ahLst/>
              <a:rect l="l" t="t" r="r" b="b"/>
              <a:pathLst>
                <a:path w="138" h="157">
                  <a:moveTo>
                    <a:pt x="69" y="0"/>
                  </a:moveTo>
                  <a:lnTo>
                    <a:pt x="0" y="0"/>
                  </a:lnTo>
                  <a:lnTo>
                    <a:pt x="69" y="157"/>
                  </a:lnTo>
                  <a:lnTo>
                    <a:pt x="138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5791320" y="2147760"/>
              <a:ext cx="3116160" cy="3195720"/>
              <a:chOff x="5791320" y="2147760"/>
              <a:chExt cx="3116160" cy="3195720"/>
            </a:xfrm>
          </p:grpSpPr>
          <p:sp>
            <p:nvSpPr>
              <p:cNvPr id="1245" name=""/>
              <p:cNvSpPr/>
              <p:nvPr/>
            </p:nvSpPr>
            <p:spPr>
              <a:xfrm>
                <a:off x="7346880" y="2466720"/>
                <a:ext cx="1179720" cy="728640"/>
              </a:xfrm>
              <a:custGeom>
                <a:avLst/>
                <a:gdLst/>
                <a:ahLst/>
                <a:rect l="l" t="t" r="r" b="b"/>
                <a:pathLst>
                  <a:path w="805" h="486">
                    <a:moveTo>
                      <a:pt x="0" y="21"/>
                    </a:moveTo>
                    <a:lnTo>
                      <a:pt x="10" y="0"/>
                    </a:lnTo>
                    <a:lnTo>
                      <a:pt x="805" y="464"/>
                    </a:lnTo>
                    <a:lnTo>
                      <a:pt x="794" y="48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346880" y="3959280"/>
                <a:ext cx="1179720" cy="628560"/>
              </a:xfrm>
              <a:custGeom>
                <a:avLst/>
                <a:gdLst/>
                <a:ahLst/>
                <a:rect l="l" t="t" r="r" b="b"/>
                <a:pathLst>
                  <a:path w="805" h="419">
                    <a:moveTo>
                      <a:pt x="805" y="21"/>
                    </a:moveTo>
                    <a:lnTo>
                      <a:pt x="794" y="0"/>
                    </a:lnTo>
                    <a:lnTo>
                      <a:pt x="0" y="398"/>
                    </a:lnTo>
                    <a:lnTo>
                      <a:pt x="10" y="419"/>
                    </a:lnTo>
                    <a:lnTo>
                      <a:pt x="805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337520" y="3975120"/>
                <a:ext cx="34920" cy="39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181560" y="3959280"/>
                <a:ext cx="1179720" cy="628560"/>
              </a:xfrm>
              <a:custGeom>
                <a:avLst/>
                <a:gdLst/>
                <a:ahLst/>
                <a:rect l="l" t="t" r="r" b="b"/>
                <a:pathLst>
                  <a:path w="805" h="419">
                    <a:moveTo>
                      <a:pt x="0" y="21"/>
                    </a:moveTo>
                    <a:lnTo>
                      <a:pt x="11" y="0"/>
                    </a:lnTo>
                    <a:lnTo>
                      <a:pt x="805" y="398"/>
                    </a:lnTo>
                    <a:lnTo>
                      <a:pt x="795" y="4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337520" y="2582640"/>
                <a:ext cx="34920" cy="59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181560" y="2566800"/>
                <a:ext cx="1179720" cy="628560"/>
              </a:xfrm>
              <a:custGeom>
                <a:avLst/>
                <a:gdLst/>
                <a:ahLst/>
                <a:rect l="l" t="t" r="r" b="b"/>
                <a:pathLst>
                  <a:path w="805" h="419">
                    <a:moveTo>
                      <a:pt x="805" y="21"/>
                    </a:moveTo>
                    <a:lnTo>
                      <a:pt x="795" y="0"/>
                    </a:lnTo>
                    <a:lnTo>
                      <a:pt x="0" y="397"/>
                    </a:lnTo>
                    <a:lnTo>
                      <a:pt x="11" y="419"/>
                    </a:lnTo>
                    <a:lnTo>
                      <a:pt x="805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966000" y="3166920"/>
                <a:ext cx="776160" cy="797040"/>
              </a:xfrm>
              <a:custGeom>
                <a:avLst/>
                <a:gdLst>
                  <a:gd name="textAreaLeft" fmla="*/ 55800 w 776160"/>
                  <a:gd name="textAreaRight" fmla="*/ 720360 w 776160"/>
                  <a:gd name="textAreaTop" fmla="*/ 55800 h 797040"/>
                  <a:gd name="textAreaBottom" fmla="*/ 741240 h 797040"/>
                </a:gdLst>
                <a:ahLst/>
                <a:rect l="textAreaLeft" t="textAreaTop" r="textAreaRight" b="textAreaBottom"/>
                <a:pathLst>
                  <a:path w="21600" h="22181">
                    <a:moveTo>
                      <a:pt x="5329" y="0"/>
                    </a:moveTo>
                    <a:arcTo wR="5329" hR="5329" stAng="16200000" swAng="-5400000"/>
                    <a:lnTo>
                      <a:pt x="0" y="16852"/>
                    </a:lnTo>
                    <a:arcTo wR="5329" hR="5329" stAng="10800000" swAng="-5400000"/>
                    <a:lnTo>
                      <a:pt x="16271" y="22181"/>
                    </a:lnTo>
                    <a:arcTo wR="5329" hR="5329" stAng="5400000" swAng="-5400000"/>
                    <a:lnTo>
                      <a:pt x="21600" y="5329"/>
                    </a:lnTo>
                    <a:arcTo wR="5329" hR="5329" stAng="0" swAng="-5400000"/>
                    <a:close/>
                  </a:path>
                </a:pathLst>
              </a:custGeom>
              <a:solidFill>
                <a:srgbClr val="ffff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791320" y="3157560"/>
                <a:ext cx="777600" cy="796680"/>
              </a:xfrm>
              <a:custGeom>
                <a:avLst/>
                <a:gdLst>
                  <a:gd name="textAreaLeft" fmla="*/ 56160 w 777600"/>
                  <a:gd name="textAreaRight" fmla="*/ 721440 w 777600"/>
                  <a:gd name="textAreaTop" fmla="*/ 56160 h 796680"/>
                  <a:gd name="textAreaBottom" fmla="*/ 740520 h 796680"/>
                </a:gdLst>
                <a:ahLst/>
                <a:rect l="textAreaLeft" t="textAreaTop" r="textAreaRight" b="textAreaBottom"/>
                <a:pathLst>
                  <a:path w="21600" h="22130">
                    <a:moveTo>
                      <a:pt x="5329" y="0"/>
                    </a:moveTo>
                    <a:arcTo wR="5329" hR="5329" stAng="16200000" swAng="-5400000"/>
                    <a:lnTo>
                      <a:pt x="0" y="16801"/>
                    </a:lnTo>
                    <a:arcTo wR="5329" hR="5329" stAng="10800000" swAng="-5400000"/>
                    <a:lnTo>
                      <a:pt x="16271" y="22130"/>
                    </a:lnTo>
                    <a:arcTo wR="5329" hR="5329" stAng="5400000" swAng="-5400000"/>
                    <a:lnTo>
                      <a:pt x="21600" y="5329"/>
                    </a:lnTo>
                    <a:arcTo wR="5329" hR="5329" stAng="0" swAng="-5400000"/>
                    <a:close/>
                  </a:path>
                </a:pathLst>
              </a:custGeom>
              <a:solidFill>
                <a:srgbClr val="a6cae1"/>
              </a:solidFill>
              <a:ln w="11160">
                <a:solidFill>
                  <a:srgbClr val="ff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118360" y="3146400"/>
                <a:ext cx="777960" cy="796680"/>
              </a:xfrm>
              <a:custGeom>
                <a:avLst/>
                <a:gdLst>
                  <a:gd name="textAreaLeft" fmla="*/ 56160 w 777960"/>
                  <a:gd name="textAreaRight" fmla="*/ 721800 w 777960"/>
                  <a:gd name="textAreaTop" fmla="*/ 56160 h 796680"/>
                  <a:gd name="textAreaBottom" fmla="*/ 740520 h 796680"/>
                </a:gdLst>
                <a:ahLst/>
                <a:rect l="textAreaLeft" t="textAreaTop" r="textAreaRight" b="textAreaBottom"/>
                <a:pathLst>
                  <a:path w="21600" h="22120">
                    <a:moveTo>
                      <a:pt x="5329" y="0"/>
                    </a:moveTo>
                    <a:arcTo wR="5329" hR="5329" stAng="16200000" swAng="-5400000"/>
                    <a:lnTo>
                      <a:pt x="0" y="16791"/>
                    </a:lnTo>
                    <a:arcTo wR="5329" hR="5329" stAng="10800000" swAng="-5400000"/>
                    <a:lnTo>
                      <a:pt x="16271" y="22120"/>
                    </a:lnTo>
                    <a:arcTo wR="5329" hR="5329" stAng="5400000" swAng="-5400000"/>
                    <a:lnTo>
                      <a:pt x="21600" y="5329"/>
                    </a:lnTo>
                    <a:arcTo wR="5329" hR="5329" stAng="0" swAng="-5400000"/>
                    <a:close/>
                  </a:path>
                </a:pathLst>
              </a:custGeom>
              <a:solidFill>
                <a:srgbClr val="567eb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00680" y="2384280"/>
                <a:ext cx="3106800" cy="39852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129000" y="2455920"/>
                <a:ext cx="2175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5c00"/>
                    </a:solidFill>
                    <a:latin typeface="Times New Roman"/>
                  </a:rPr>
                  <a:t>#pragma omp paralle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80240" y="3308400"/>
                <a:ext cx="566280" cy="213480"/>
              </a:xfrm>
              <a:prstGeom prst="rect">
                <a:avLst/>
              </a:prstGeom>
              <a:solidFill>
                <a:srgbClr val="a6c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5c00"/>
                    </a:solidFill>
                    <a:latin typeface="Times New Roman"/>
                  </a:rPr>
                  <a:t>Thre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130800" y="3484440"/>
                <a:ext cx="153000" cy="366120"/>
              </a:xfrm>
              <a:prstGeom prst="rect">
                <a:avLst/>
              </a:prstGeom>
              <a:solidFill>
                <a:srgbClr val="a6c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c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050240" y="3308400"/>
                <a:ext cx="566280" cy="213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5c00"/>
                    </a:solidFill>
                    <a:latin typeface="Times New Roman"/>
                  </a:rPr>
                  <a:t>Thre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294320" y="3484440"/>
                <a:ext cx="153000" cy="3661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c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210880" y="3308400"/>
                <a:ext cx="566280" cy="213480"/>
              </a:xfrm>
              <a:prstGeom prst="rect">
                <a:avLst/>
              </a:prstGeom>
              <a:solidFill>
                <a:srgbClr val="567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5c00"/>
                    </a:solidFill>
                    <a:latin typeface="Times New Roman"/>
                  </a:rPr>
                  <a:t>Thre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461080" y="3484440"/>
                <a:ext cx="153000" cy="366120"/>
              </a:xfrm>
              <a:prstGeom prst="rect">
                <a:avLst/>
              </a:prstGeom>
              <a:solidFill>
                <a:srgbClr val="567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c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253280" y="2147760"/>
                <a:ext cx="201600" cy="236520"/>
              </a:xfrm>
              <a:custGeom>
                <a:avLst/>
                <a:gdLst/>
                <a:ahLst/>
                <a:rect l="l" t="t" r="r" b="b"/>
                <a:pathLst>
                  <a:path w="138" h="157">
                    <a:moveTo>
                      <a:pt x="69" y="0"/>
                    </a:moveTo>
                    <a:lnTo>
                      <a:pt x="0" y="0"/>
                    </a:lnTo>
                    <a:lnTo>
                      <a:pt x="69" y="157"/>
                    </a:lnTo>
                    <a:lnTo>
                      <a:pt x="138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337520" y="4770360"/>
                <a:ext cx="34920" cy="573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238880" y="4343400"/>
                <a:ext cx="228600" cy="45720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5" name=""/>
          <p:cNvSpPr/>
          <p:nvPr/>
        </p:nvSpPr>
        <p:spPr>
          <a:xfrm>
            <a:off x="6086520" y="6573960"/>
            <a:ext cx="3057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Intel and the Intel logo are trademarks or registered trademarks of Intel Corporation or its subsidiaries in the United States or other countrie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penMP*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arallel region specific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375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8" name=""/>
          <p:cNvSpPr/>
          <p:nvPr/>
        </p:nvSpPr>
        <p:spPr>
          <a:xfrm>
            <a:off x="609480" y="1600200"/>
            <a:ext cx="4876920" cy="20142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fines parallel region over structured block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reads are created as “parallel” pragma is cro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reads block at end o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ta is shared among threads unless specified otherw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DB8A-E749-4200-B097-2CCAA491E7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77BCB-58A4-4D72-B477-0BA4DF973C26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penMP* - Example [Prime Number Gen.]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0" name=""/>
          <p:cNvSpPr/>
          <p:nvPr/>
        </p:nvSpPr>
        <p:spPr>
          <a:xfrm>
            <a:off x="2901960" y="1074600"/>
            <a:ext cx="6137280" cy="4869000"/>
          </a:xfrm>
          <a:prstGeom prst="rect">
            <a:avLst/>
          </a:prstGeom>
          <a:solidFill>
            <a:srgbClr val="eaeaea"/>
          </a:solidFill>
          <a:ln w="93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bool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TestForPrime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va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{   </a:t>
            </a:r>
            <a:r>
              <a:rPr b="1" lang="en-US" sz="1600" spc="-1" strike="noStrike">
                <a:solidFill>
                  <a:srgbClr val="0860a8"/>
                </a:solidFill>
                <a:latin typeface="Courier New"/>
              </a:rPr>
              <a:t>// let’s start checking from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limit, factor =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limit = 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long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)(sqrtf(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)val)+0.5f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( (factor &lt;= limit) &amp;&amp; (val % factor)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factor ++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(factor &gt; limi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FindPrimes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start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en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c2e8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range = end - start + 1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c2e86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( </a:t>
            </a:r>
            <a:r>
              <a:rPr b="1" lang="en-US" sz="1600" spc="-1" strike="noStrike">
                <a:solidFill>
                  <a:srgbClr val="0c2e8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i = start; i &lt;= end; i += 2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c2e86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( TestForPrime(i)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globalPrimes[gPrimesFound++] = i;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ShowProgress(i, ran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057400" y="3962520"/>
            <a:ext cx="6877080" cy="170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5c00"/>
            </a:solidFill>
            <a:miter/>
          </a:ln>
          <a:effectLst>
            <a:outerShdw dist="107932" dir="2700000" blurRad="0" rotWithShape="0">
              <a:srgbClr val="ff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(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i = start; i &lt;= end; i+= 2 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( TestForPrime(i)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globalPrimes[gPrimesFound++] = 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ShowProgress(i, rang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5c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rot="10800000">
            <a:off x="423720" y="216216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rot="10800000">
            <a:off x="423720" y="250668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rot="10800000">
            <a:off x="423720" y="285264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rot="10800000">
            <a:off x="423720" y="319896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rot="10800000">
            <a:off x="423720" y="354492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rot="10800000">
            <a:off x="423720" y="388944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rot="10800000">
            <a:off x="423720" y="4235400"/>
            <a:ext cx="403200" cy="349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rot="10800000">
            <a:off x="423720" y="4581000"/>
            <a:ext cx="403200" cy="349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rot="10800000">
            <a:off x="423720" y="4925520"/>
            <a:ext cx="403200" cy="349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538200" y="1643040"/>
            <a:ext cx="1325520" cy="398880"/>
            <a:chOff x="538200" y="1643040"/>
            <a:chExt cx="1325520" cy="398880"/>
          </a:xfrm>
        </p:grpSpPr>
        <p:sp>
          <p:nvSpPr>
            <p:cNvPr id="1282" name=""/>
            <p:cNvSpPr/>
            <p:nvPr/>
          </p:nvSpPr>
          <p:spPr>
            <a:xfrm>
              <a:off x="538200" y="16430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42840" y="1643040"/>
              <a:ext cx="92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ct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366840" y="21034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66840" y="2449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66840" y="2795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66840" y="314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66840" y="34862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66840" y="38322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66840" y="41781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66840" y="45226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66840" y="4869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c00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2 3 4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rot="10800000">
            <a:off x="423720" y="3198960"/>
            <a:ext cx="403200" cy="349200"/>
          </a:xfrm>
          <a:prstGeom prst="rect">
            <a:avLst/>
          </a:prstGeom>
          <a:solidFill>
            <a:srgbClr val="ff5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rot="10800000">
            <a:off x="423720" y="4235400"/>
            <a:ext cx="403200" cy="349200"/>
          </a:xfrm>
          <a:prstGeom prst="rect">
            <a:avLst/>
          </a:prstGeom>
          <a:solidFill>
            <a:srgbClr val="ff5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229360" cy="149076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28600" y="10666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erial Exe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4F80-7343-4C25-ACB1-284EDA2CCE9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9BB6-CE72-4AF1-938A-D6ADF242FCD1}" type="datetime1">
              <a:rPr lang="en-US"/>
              <a:t>07/29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1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ulti-Core Processors - Overview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456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multi-core processor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d circuit (IC) chips containing more than one identical physical processor (core) in the same IC package. OS perceives each core as a discrete process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ore has its own complete set of resources, and may share the on-die cache lay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s may have on-die communication path to front-side bus (FSB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multi processor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8171-9DC6-4982-A98B-E0623C1E19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6C89E-5D7F-4D3F-8339-77F990C74079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penMP* - Example [Prime Number Gen.]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                 -&gt; With OpenMP*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572000"/>
          </a:xfrm>
          <a:prstGeom prst="rect">
            <a:avLst/>
          </a:prstGeom>
          <a:solidFill>
            <a:srgbClr val="001e8a"/>
          </a:solidFill>
          <a:ln w="9360">
            <a:solidFill>
              <a:srgbClr val="ffffff"/>
            </a:solidFill>
            <a:miter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#pragma omp parallel f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( int</a:t>
            </a: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= start; i &lt;= end; i+= 2 ){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( TestForPrime(i) 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obalPrimes[gPrimesFound++] = i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owProgress(i, range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914400" y="1219320"/>
            <a:ext cx="2154240" cy="1900440"/>
            <a:chOff x="914400" y="1219320"/>
            <a:chExt cx="2154240" cy="1900440"/>
          </a:xfrm>
        </p:grpSpPr>
        <p:sp>
          <p:nvSpPr>
            <p:cNvPr id="1300" name=""/>
            <p:cNvSpPr/>
            <p:nvPr/>
          </p:nvSpPr>
          <p:spPr>
            <a:xfrm>
              <a:off x="2117520" y="1219320"/>
              <a:ext cx="951120" cy="840960"/>
            </a:xfrm>
            <a:prstGeom prst="ellipse">
              <a:avLst/>
            </a:prstGeom>
            <a:noFill/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2211120" y="2079360"/>
              <a:ext cx="201600" cy="437760"/>
            </a:xfrm>
            <a:prstGeom prst="line">
              <a:avLst/>
            </a:prstGeom>
            <a:ln w="57240">
              <a:solidFill>
                <a:srgbClr val="ff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16200000">
              <a:off x="1442520" y="1984320"/>
              <a:ext cx="606960" cy="1663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OpenM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2837160" y="1219320"/>
            <a:ext cx="4195080" cy="3447360"/>
            <a:chOff x="2837160" y="1219320"/>
            <a:chExt cx="4195080" cy="3447360"/>
          </a:xfrm>
        </p:grpSpPr>
        <p:sp>
          <p:nvSpPr>
            <p:cNvPr id="1304" name=""/>
            <p:cNvSpPr/>
            <p:nvPr/>
          </p:nvSpPr>
          <p:spPr>
            <a:xfrm>
              <a:off x="2962440" y="1219320"/>
              <a:ext cx="1629000" cy="841320"/>
            </a:xfrm>
            <a:prstGeom prst="ellipse">
              <a:avLst/>
            </a:prstGeom>
            <a:noFill/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837160" y="3719520"/>
              <a:ext cx="4195080" cy="94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Create threads here for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this parallel reg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3918240" y="2065320"/>
              <a:ext cx="712800" cy="1682640"/>
            </a:xfrm>
            <a:prstGeom prst="line">
              <a:avLst/>
            </a:prstGeom>
            <a:ln w="57240">
              <a:solidFill>
                <a:srgbClr val="ff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4419720" y="1219320"/>
            <a:ext cx="3588480" cy="2216880"/>
            <a:chOff x="4419720" y="1219320"/>
            <a:chExt cx="3588480" cy="2216880"/>
          </a:xfrm>
        </p:grpSpPr>
        <p:sp>
          <p:nvSpPr>
            <p:cNvPr id="1308" name=""/>
            <p:cNvSpPr/>
            <p:nvPr/>
          </p:nvSpPr>
          <p:spPr>
            <a:xfrm>
              <a:off x="4419720" y="1219320"/>
              <a:ext cx="932040" cy="731520"/>
            </a:xfrm>
            <a:prstGeom prst="ellipse">
              <a:avLst/>
            </a:prstGeom>
            <a:noFill/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79400" y="2489040"/>
              <a:ext cx="2728800" cy="94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Defined by the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for</a:t>
              </a:r>
              <a:r>
                <a:rPr b="1" lang="en-US" sz="2800" spc="-1" strike="noStrike">
                  <a:solidFill>
                    <a:srgbClr val="ff5c00"/>
                  </a:solidFill>
                  <a:latin typeface="Arial"/>
                </a:rPr>
                <a:t> loo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5262840" y="1841400"/>
              <a:ext cx="1481040" cy="656640"/>
            </a:xfrm>
            <a:prstGeom prst="line">
              <a:avLst/>
            </a:prstGeom>
            <a:ln w="57240">
              <a:solidFill>
                <a:srgbClr val="ff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1" name="" descr=""/>
          <p:cNvPicPr/>
          <p:nvPr/>
        </p:nvPicPr>
        <p:blipFill>
          <a:blip r:embed="rId1"/>
          <a:stretch/>
        </p:blipFill>
        <p:spPr>
          <a:xfrm>
            <a:off x="1828800" y="4495680"/>
            <a:ext cx="5229360" cy="14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2F2F-1235-4036-AE97-BFA866C2A2D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E5252-3E5A-4451-B341-BB11184F01DE}" type="datetime1">
              <a:rPr lang="en-US"/>
              <a:t>07/29/26</a:t>
            </a:fld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uto-parallelis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-parallelism is implicit parallelis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ompiler will do automatic threading of loops and other structures, without having to manually insert OpenMP* directiv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cus is on loop unrolling and splitting. Loops whose trip counts are known can be  parallelized, and no loop carried dependencies exists (read after write, write after read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E: A loop carried dependence occurs when same memory location is referenced in different iterations of the loop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0469-52D6-4BC3-8D11-576718F4FF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98218-D371-4E91-B9E9-588B55E9A482}" type="datetime1">
              <a:rPr lang="en-US"/>
              <a:t>07/29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uto-parallelism - Examp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6" name=""/>
          <p:cNvSpPr/>
          <p:nvPr/>
        </p:nvSpPr>
        <p:spPr>
          <a:xfrm>
            <a:off x="457200" y="1676520"/>
            <a:ext cx="3276720" cy="13107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 (i=1; i&lt;100; i++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{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[i] = a[i] + b[i] * c[i]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02360" y="1600200"/>
            <a:ext cx="3313080" cy="33858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/ Threa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(i=1; i&lt;50; i++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[i] = a[i] + b[i] * c[i]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/ Threa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(i=50; i&lt;100; i++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[i] = a[i] + b[i] * c[i]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3657600"/>
            <a:ext cx="2514600" cy="398880"/>
          </a:xfrm>
          <a:prstGeom prst="rect">
            <a:avLst/>
          </a:prstGeom>
          <a:solidFill>
            <a:srgbClr val="f5e6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Auto-paralle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914400" y="312408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914400" y="3886200"/>
            <a:ext cx="6858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114800" y="3886200"/>
            <a:ext cx="10666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8339-843A-478D-8400-6B0B5D2B48A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F1226-F36C-43BC-991C-384D913E39C6}" type="datetime1">
              <a:rPr lang="en-US"/>
              <a:t>07/29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ading Issues To Deal Wit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ta R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current access of same variable by multiple thread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nchron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data access must be coordinat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Sta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reads wait indefinitely due to dangling loc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ad Loc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efinite wait for resources, caused by locking hierarchy in thread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lse Shar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reads writing different data on the same cache l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9DF2-38B2-4883-9268-8A6A5207D7B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C6351-7D24-4169-84E8-E54618CED467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lse Sharing – Memory confli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1055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ta elements from multiple threads lie on same cache 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ld cause problem even if threads are not accessing same memory lo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81640" cy="373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9EF9-FF22-4C04-AD34-7F01A1FC1E1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9F7BB-92E2-4698-AE56-670A22B956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mon Performance Issu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85000"/>
              </a:lnSpc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llel Overh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e to thread creation, schedulin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nchroniz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cessive use of global data, contention for the same synchronization objec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ad Imba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mproper distribution of parallel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4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 sufficient parallel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C23B-AED2-4B4D-83A1-64F45DDF49A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82074-1262-4249-8F0F-DC3E1F4CDEE3}" type="datetime1">
              <a:rPr lang="en-US"/>
              <a:t>07/29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llel Over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ead Creation overh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head increases rapidly as the number of active threads increa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of re-usable threads and thread p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ortizes the cost of thread cre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eeps number of active threads relatively consta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12C3-D8A1-49B4-A02E-FA7803E37AC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5956A-6E10-47B1-8E40-FED76C4BD423}" type="datetime1">
              <a:rPr lang="en-US"/>
              <a:t>07/29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ynchroniza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p conten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location from heap causes implicit synchron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locate on stack or use thread local stor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omic updates versus critical se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me global data updates can use atomic opera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tomic updates whenever possi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tical Sections vs. Mutual Exclusion A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CRITICAL SECTION objects when visibility across process boundaries is not requir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es lesser overhe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D63D-BB31-48C4-883E-07932EA7F77C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E710A-EB03-43DF-B4B6-727EEFA88428}" type="datetime1">
              <a:rPr lang="en-US"/>
              <a:t>07/29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reading tools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Checker 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used to help debug for correctness of threaded applica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pin-point notorious threading bugs like data races, thread stalls, deadlocks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 Profiler 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d for performance tuning to maximize code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pinpoint performance bottlenecks in threaded applications like load imbalance, granularity, load imbalance and synchron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1C8C-D830-4D0F-AB08-1581D1AAD61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19162-C869-455D-A036-A4EFBD963D21}" type="datetime1">
              <a:rPr lang="en-US"/>
              <a:t>07/29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7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xample Thread Checker tool: Intel® Thread 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Checker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620120" cy="3914640"/>
          </a:xfrm>
          <a:prstGeom prst="rect">
            <a:avLst/>
          </a:prstGeom>
          <a:ln w="0">
            <a:noFill/>
          </a:ln>
        </p:spPr>
      </p:pic>
      <p:grpSp>
        <p:nvGrpSpPr>
          <p:cNvPr id="1337" name=""/>
          <p:cNvGrpSpPr/>
          <p:nvPr/>
        </p:nvGrpSpPr>
        <p:grpSpPr>
          <a:xfrm>
            <a:off x="2590920" y="2133720"/>
            <a:ext cx="3895560" cy="2217600"/>
            <a:chOff x="2590920" y="2133720"/>
            <a:chExt cx="3895560" cy="2217600"/>
          </a:xfrm>
        </p:grpSpPr>
        <p:sp>
          <p:nvSpPr>
            <p:cNvPr id="1338" name=""/>
            <p:cNvSpPr/>
            <p:nvPr/>
          </p:nvSpPr>
          <p:spPr>
            <a:xfrm>
              <a:off x="2590920" y="3948120"/>
              <a:ext cx="2419200" cy="403200"/>
            </a:xfrm>
            <a:prstGeom prst="ellipse">
              <a:avLst/>
            </a:prstGeom>
            <a:noFill/>
            <a:ln w="57240">
              <a:solidFill>
                <a:srgbClr val="ff5c00"/>
              </a:solidFill>
              <a:miter/>
            </a:ln>
            <a:effectLst>
              <a:outerShdw dist="107932" dir="2700000" blurRad="0" rotWithShape="0">
                <a:srgbClr val="ff5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92720" y="2133720"/>
              <a:ext cx="2093760" cy="916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5c00"/>
              </a:solidFill>
              <a:miter/>
            </a:ln>
            <a:effectLst>
              <a:outerShdw dist="107932" dir="2700000" blurRad="0" rotWithShape="0">
                <a:srgbClr val="ff5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c00"/>
                  </a:solidFill>
                  <a:latin typeface="Arial"/>
                </a:rPr>
                <a:t>This is the level in the call tree where we need to thread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4408200" y="3081240"/>
              <a:ext cx="152280" cy="882720"/>
            </a:xfrm>
            <a:prstGeom prst="line">
              <a:avLst/>
            </a:prstGeom>
            <a:ln w="38160">
              <a:solidFill>
                <a:srgbClr val="ff5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228600" y="4876920"/>
            <a:ext cx="8305920" cy="1068840"/>
          </a:xfrm>
          <a:prstGeom prst="rect">
            <a:avLst/>
          </a:prstGeom>
          <a:solidFill>
            <a:srgbClr val="f5e647"/>
          </a:solidFill>
          <a:ln w="38160">
            <a:solidFill>
              <a:srgbClr val="f5e647"/>
            </a:solidFill>
            <a:miter/>
          </a:ln>
          <a:effectLst>
            <a:outerShdw dist="17819" dir="2700000" blurRad="0" rotWithShape="0">
              <a:srgbClr val="ff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es time consuming region – finds proper level in call-tree to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3BEC-1F25-43EF-BD89-FE1AA97D4BDB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4C97B-5E5D-463A-A4CF-4AF6462728FE}" type="datetime1">
              <a:rPr lang="en-US"/>
              <a:t>07/29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ulti-Core Processors - Overview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456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core architecture enables divide-and-conquer” strategy to perform more work in a given clock cyc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s enable thread-level parallelism (multiple instructions / threads per clock cycle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s performance stalls, with a dramatic increase in overall effective system perform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EEP (energy efficient performance) and scalabilit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00CA-A992-421F-9337-2936384062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795A3-74F8-4046-9286-378C20110F3F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xample Thread Checker tool: Intel® Thread 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 Checker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nalys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to threa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indPrimes(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5000"/>
              </a:lnSpc>
              <a:spcBef>
                <a:spcPts val="21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it worth threading a selected reg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ears to have minimal dependenc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ears to be data-parall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umes over 95% of the run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1523880" y="3429000"/>
            <a:ext cx="4705200" cy="1419120"/>
            <a:chOff x="1523880" y="3429000"/>
            <a:chExt cx="4705200" cy="1419120"/>
          </a:xfrm>
        </p:grpSpPr>
        <p:pic>
          <p:nvPicPr>
            <p:cNvPr id="1345" name="" descr=""/>
            <p:cNvPicPr/>
            <p:nvPr/>
          </p:nvPicPr>
          <p:blipFill>
            <a:blip r:embed="rId1"/>
            <a:stretch/>
          </p:blipFill>
          <p:spPr>
            <a:xfrm>
              <a:off x="1523880" y="3429000"/>
              <a:ext cx="470520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6" name=""/>
            <p:cNvSpPr/>
            <p:nvPr/>
          </p:nvSpPr>
          <p:spPr>
            <a:xfrm>
              <a:off x="2824200" y="4065480"/>
              <a:ext cx="896760" cy="348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E997-7348-4F91-B58E-4FA356253E7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FFFC6-6B65-4FA4-BA9D-677BBB1F76BE}" type="datetime1">
              <a:rPr lang="en-US"/>
              <a:t>07/29/26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1009800" y="552600"/>
            <a:ext cx="7124400" cy="5752800"/>
          </a:xfrm>
          <a:prstGeom prst="rect">
            <a:avLst/>
          </a:prstGeom>
          <a:ln w="0">
            <a:noFill/>
          </a:ln>
        </p:spPr>
      </p:pic>
      <p:pic>
        <p:nvPicPr>
          <p:cNvPr id="1348" name="" descr=""/>
          <p:cNvPicPr/>
          <p:nvPr/>
        </p:nvPicPr>
        <p:blipFill>
          <a:blip r:embed="rId2"/>
          <a:stretch/>
        </p:blipFill>
        <p:spPr>
          <a:xfrm>
            <a:off x="2575080" y="1033560"/>
            <a:ext cx="1000080" cy="23796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3"/>
          <a:stretch/>
        </p:blipFill>
        <p:spPr>
          <a:xfrm>
            <a:off x="1019160" y="542880"/>
            <a:ext cx="7105680" cy="577224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4"/>
          <a:stretch/>
        </p:blipFill>
        <p:spPr>
          <a:xfrm>
            <a:off x="403200" y="843120"/>
            <a:ext cx="8298000" cy="511308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/>
          <p:cNvPicPr/>
          <p:nvPr/>
        </p:nvPicPr>
        <p:blipFill>
          <a:blip r:embed="rId5"/>
          <a:stretch/>
        </p:blipFill>
        <p:spPr>
          <a:xfrm>
            <a:off x="404640" y="863640"/>
            <a:ext cx="8298000" cy="51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8D1A-B223-4C2F-9811-8F5886DA1CB3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0F10E-2BEC-4F7C-9F20-71DFEB412F41}" type="datetime1">
              <a:rPr lang="en-US"/>
              <a:t>07/29/26</a:t>
            </a:fld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4.44444E-006 C 0.00105 -0.00533 0.00226 -0.01042 -0.00347 -0.01575 C -0.00902 -0.02107 -0.00954 -0.02848 -0.03333 -0.03149 C -0.05711 -0.0345 -0.12743 -0.03357 -0.14618 -0.03403 E">
                                      <p:cBhvr>
                                        <p:cTn id="240" dur="2000" fill="hold"/>
                                        <p:tgtEl>
                                          <p:spTgt spid="1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79261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xample Thread Profiler tool: Intel® Thread 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                                               Profiler for OpenMP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826920" y="1239840"/>
            <a:ext cx="7020000" cy="475452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1749600" y="5703840"/>
            <a:ext cx="690480" cy="3459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325600" y="2795760"/>
            <a:ext cx="749520" cy="161280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592080" y="2852640"/>
            <a:ext cx="1554120" cy="161316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572000" y="2852640"/>
            <a:ext cx="1036800" cy="161316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5204880" y="2852640"/>
            <a:ext cx="662040" cy="161316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954760" y="2852640"/>
            <a:ext cx="114120" cy="1613160"/>
          </a:xfrm>
          <a:prstGeom prst="line">
            <a:avLst/>
          </a:prstGeom>
          <a:ln w="57240">
            <a:solidFill>
              <a:srgbClr val="ff5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826920" y="1239840"/>
            <a:ext cx="7019640" cy="4754520"/>
            <a:chOff x="826920" y="1239840"/>
            <a:chExt cx="7019640" cy="4754520"/>
          </a:xfrm>
        </p:grpSpPr>
        <p:pic>
          <p:nvPicPr>
            <p:cNvPr id="1361" name="" descr=""/>
            <p:cNvPicPr/>
            <p:nvPr/>
          </p:nvPicPr>
          <p:blipFill>
            <a:blip r:embed="rId2"/>
            <a:stretch/>
          </p:blipFill>
          <p:spPr>
            <a:xfrm>
              <a:off x="826920" y="1239840"/>
              <a:ext cx="70196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"/>
            <p:cNvSpPr/>
            <p:nvPr/>
          </p:nvSpPr>
          <p:spPr>
            <a:xfrm rot="19563600">
              <a:off x="5166720" y="2736720"/>
              <a:ext cx="237960" cy="331200"/>
            </a:xfrm>
            <a:prstGeom prst="upArrow">
              <a:avLst>
                <a:gd name="adj1" fmla="val 24139"/>
                <a:gd name="adj2" fmla="val 52915"/>
              </a:avLst>
            </a:prstGeom>
            <a:solidFill>
              <a:srgbClr val="ffffff"/>
            </a:solidFill>
            <a:ln w="1260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63" name="" descr=""/>
            <p:cNvPicPr/>
            <p:nvPr/>
          </p:nvPicPr>
          <p:blipFill>
            <a:blip r:embed="rId3"/>
            <a:stretch/>
          </p:blipFill>
          <p:spPr>
            <a:xfrm>
              <a:off x="5281200" y="3024000"/>
              <a:ext cx="1133640" cy="16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4" name="" descr=""/>
          <p:cNvPicPr/>
          <p:nvPr/>
        </p:nvPicPr>
        <p:blipFill>
          <a:blip r:embed="rId4"/>
          <a:stretch/>
        </p:blipFill>
        <p:spPr>
          <a:xfrm>
            <a:off x="838080" y="1219320"/>
            <a:ext cx="7020000" cy="4754520"/>
          </a:xfrm>
          <a:prstGeom prst="rect">
            <a:avLst/>
          </a:prstGeom>
          <a:ln w="0">
            <a:noFill/>
          </a:ln>
        </p:spPr>
      </p:pic>
      <p:grpSp>
        <p:nvGrpSpPr>
          <p:cNvPr id="1365" name=""/>
          <p:cNvGrpSpPr/>
          <p:nvPr/>
        </p:nvGrpSpPr>
        <p:grpSpPr>
          <a:xfrm>
            <a:off x="3592440" y="4638600"/>
            <a:ext cx="1117080" cy="600120"/>
            <a:chOff x="3592440" y="4638600"/>
            <a:chExt cx="1117080" cy="600120"/>
          </a:xfrm>
        </p:grpSpPr>
        <p:pic>
          <p:nvPicPr>
            <p:cNvPr id="1366" name="" descr=""/>
            <p:cNvPicPr/>
            <p:nvPr/>
          </p:nvPicPr>
          <p:blipFill>
            <a:blip r:embed="rId5"/>
            <a:stretch/>
          </p:blipFill>
          <p:spPr>
            <a:xfrm>
              <a:off x="3592440" y="4638600"/>
              <a:ext cx="96048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7" name=""/>
            <p:cNvSpPr/>
            <p:nvPr/>
          </p:nvSpPr>
          <p:spPr>
            <a:xfrm rot="19563600">
              <a:off x="4398840" y="4868640"/>
              <a:ext cx="238320" cy="331560"/>
            </a:xfrm>
            <a:prstGeom prst="upArrow">
              <a:avLst>
                <a:gd name="adj1" fmla="val 24139"/>
                <a:gd name="adj2" fmla="val 52893"/>
              </a:avLst>
            </a:prstGeom>
            <a:solidFill>
              <a:srgbClr val="ffffff"/>
            </a:solidFill>
            <a:ln w="1260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"/>
          <p:cNvSpPr/>
          <p:nvPr/>
        </p:nvSpPr>
        <p:spPr>
          <a:xfrm rot="19563600">
            <a:off x="3535200" y="4465440"/>
            <a:ext cx="238320" cy="331560"/>
          </a:xfrm>
          <a:prstGeom prst="upArrow">
            <a:avLst>
              <a:gd name="adj1" fmla="val 24139"/>
              <a:gd name="adj2" fmla="val 52893"/>
            </a:avLst>
          </a:prstGeom>
          <a:solidFill>
            <a:srgbClr val="ffffff"/>
          </a:solidFill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6"/>
          <a:stretch/>
        </p:blipFill>
        <p:spPr>
          <a:xfrm>
            <a:off x="1000080" y="1643040"/>
            <a:ext cx="6591240" cy="3830760"/>
          </a:xfrm>
          <a:prstGeom prst="rect">
            <a:avLst/>
          </a:prstGeom>
          <a:ln w="0">
            <a:noFill/>
          </a:ln>
        </p:spPr>
      </p:pic>
      <p:sp>
        <p:nvSpPr>
          <p:cNvPr id="1370" name=""/>
          <p:cNvSpPr/>
          <p:nvPr/>
        </p:nvSpPr>
        <p:spPr>
          <a:xfrm>
            <a:off x="380880" y="5257800"/>
            <a:ext cx="8077320" cy="685800"/>
          </a:xfrm>
          <a:prstGeom prst="rect">
            <a:avLst/>
          </a:prstGeom>
          <a:solidFill>
            <a:srgbClr val="f5e647"/>
          </a:solidFill>
          <a:ln w="93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c00"/>
                </a:solidFill>
                <a:latin typeface="Verdana"/>
              </a:rPr>
              <a:t>Speedup Graph estimates threading speedup and potential speedup based on Amdahl’s La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D9D5-4802-4569-8F94-418AA89952C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DC182-8EF8-4EAC-A60D-ACA0F027D8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0" dur="1" fill="hold"/>
                                  <p:tgtEl>
                                    <p:spTgt spid="1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emory Caching / Performance on multi-core system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maximize software performance on multi-core systems, core configurations and memory cache design has to be consider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cess resources are shared by threads, and synchronized for data acce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lti-core processors share caches, and processor maintains cache cohere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che Memory, and System Memory contains replicated data, and data state is monitored by Cache HW. Cache lines are used for data transf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A209-6943-4212-B17D-D4DFF2F9240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442CD-DB11-43EC-9680-64EA99A14A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emory Caching – Considerations for maximizing Performanc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2332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 locking primitives to get true sharing of data between threads, with data synchron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ep few active threads to access data a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plicate data copies for use by multi-thre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s feedback data to single thread for updating the shared da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e threads sharing data on cores that share cache. Use processor affinity to assign tasks to co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2332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lse sharing can degrade performance, so organize data effici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6FE8-AF92-4F2B-AFC2-BEF8C465A4A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50ABF-46BD-4765-A6F6-D79F603152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7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S Support / SW too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NUX* 2.6.16 Kernels have complete support for multi-core (detects cores and enables them), and 2.6.16 –mm tree has multi-core scheduler optimizations to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® C++ Compiler for Linux*, / Windows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upports OpenMP*, Auto-parallelism, designed to support and optimize for dual-core and multi-core processo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® Thread Chec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inpoints notorious threading bugs like data races, stalls, and deadlock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® Thread Profi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ies performance issues in threaded applications, and pinpoints performance bottle-necks affecting execution t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l® VTune Performance Analyz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ies and characterizes performance issu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207E-8687-45EC-BB08-5B9B105C126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D7DEF-B823-4A21-A1F5-357FE15D6490}" type="datetime1">
              <a:rPr lang="en-US"/>
              <a:t>07/29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1" lang="en-US" sz="4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ulti-Core processors enable true thread level parallelism with great Energy Efficient Performance, and Scalabil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o utilize the full potential of multi-core processors, SW applications will need to move from a single to a multi-threaded mod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ptimization techniques like OpenMP*, Auto-parallelization, cache coherency are key to maximizing performa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6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SW application should not just be threaded, but should be designed to be a well-threaded application for maximizing performance on multi-core processors.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"/>
          <p:cNvSpPr/>
          <p:nvPr/>
        </p:nvSpPr>
        <p:spPr>
          <a:xfrm>
            <a:off x="380880" y="5410080"/>
            <a:ext cx="845820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9c"/>
              </a:gs>
              <a:gs pos="100000">
                <a:srgbClr val="750047"/>
              </a:gs>
            </a:gsLst>
            <a:lin ang="5400000"/>
          </a:gradFill>
          <a:ln w="28440">
            <a:solidFill>
              <a:srgbClr val="ff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Unleash the power of multi-co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23D7-24A3-4F46-BAD8-82D653B899F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950D7-5E85-424F-9C3B-9C4F317162D4}" type="datetime1">
              <a:rPr lang="en-US"/>
              <a:t>07/29/26</a:t>
            </a:fld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BACK-UP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6840" y="1711080"/>
            <a:ext cx="807732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CFCF-53C4-474A-9DA7-BCC629BBAB5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D9AD0-8C40-4FBC-8B41-BDDAF1CCB7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95280"/>
            <a:ext cx="8456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o physical cores in a pa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with its own L1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with its own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th cores share the L2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uly parallel multi-tasking and threaded execution. Increased throughp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Dual-core Intel Processor (example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010280" y="457200"/>
            <a:ext cx="1884240" cy="1549440"/>
            <a:chOff x="7010280" y="457200"/>
            <a:chExt cx="1884240" cy="154944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7010280" y="457200"/>
              <a:ext cx="188424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508520" y="685800"/>
              <a:ext cx="473040" cy="588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80120" y="685800"/>
              <a:ext cx="473040" cy="588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510960" y="2133720"/>
            <a:ext cx="276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15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Two Actual Processor C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781680" y="2895480"/>
            <a:ext cx="2362320" cy="2222280"/>
            <a:chOff x="6781680" y="2895480"/>
            <a:chExt cx="2362320" cy="2222280"/>
          </a:xfrm>
        </p:grpSpPr>
        <p:grpSp>
          <p:nvGrpSpPr>
            <p:cNvPr id="68" name=""/>
            <p:cNvGrpSpPr/>
            <p:nvPr/>
          </p:nvGrpSpPr>
          <p:grpSpPr>
            <a:xfrm>
              <a:off x="6858000" y="2895480"/>
              <a:ext cx="2209680" cy="1830600"/>
              <a:chOff x="6858000" y="2895480"/>
              <a:chExt cx="2209680" cy="1830600"/>
            </a:xfrm>
          </p:grpSpPr>
          <p:sp>
            <p:nvSpPr>
              <p:cNvPr id="69" name=""/>
              <p:cNvSpPr/>
              <p:nvPr/>
            </p:nvSpPr>
            <p:spPr>
              <a:xfrm>
                <a:off x="7848720" y="4614840"/>
                <a:ext cx="228600" cy="111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ff5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6858000" y="2895480"/>
                <a:ext cx="1058760" cy="665280"/>
                <a:chOff x="6858000" y="2895480"/>
                <a:chExt cx="1058760" cy="6652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6858000" y="3228120"/>
                  <a:ext cx="1058760" cy="33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67eb9"/>
                    </a:gs>
                    <a:gs pos="100000">
                      <a:srgbClr val="273a5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ff5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EXE Core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858000" y="2895480"/>
                  <a:ext cx="1058760" cy="33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ff5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P Uni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8001000" y="2895480"/>
                <a:ext cx="1058760" cy="665280"/>
                <a:chOff x="8001000" y="2895480"/>
                <a:chExt cx="1058760" cy="665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001000" y="3228120"/>
                  <a:ext cx="1058760" cy="33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67eb9"/>
                    </a:gs>
                    <a:gs pos="100000">
                      <a:srgbClr val="273a55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ff5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EXE Core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001000" y="2895480"/>
                  <a:ext cx="1058760" cy="33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ff5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P Uni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858000" y="4116240"/>
                <a:ext cx="2209680" cy="481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5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2 Cach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8000" y="3616200"/>
                <a:ext cx="1066680" cy="48096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5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1 Cach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01000" y="3616200"/>
                <a:ext cx="1066680" cy="480960"/>
              </a:xfrm>
              <a:prstGeom prst="rect">
                <a:avLst/>
              </a:prstGeom>
              <a:gradFill rotWithShape="0">
                <a:gsLst>
                  <a:gs pos="0">
                    <a:srgbClr val="0c2e86"/>
                  </a:gs>
                  <a:gs pos="100000">
                    <a:srgbClr val="05153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ff5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1 Cach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781680" y="4537080"/>
              <a:ext cx="2362320" cy="580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ff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2e86"/>
                  </a:solidFill>
                  <a:latin typeface="Times New Roman"/>
                </a:rPr>
                <a:t>System B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2e8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c2e86"/>
                  </a:solidFill>
                  <a:latin typeface="Times New Roman"/>
                </a:rPr>
                <a:t>(667MHz, 5333MB/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E490-9209-450E-A214-DC9B5157622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01765-02D0-447E-B359-6C362D271F28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ulti-core Processors - Overview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45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371600"/>
            <a:ext cx="8518320" cy="3776760"/>
          </a:xfrm>
          <a:prstGeom prst="roundRect">
            <a:avLst>
              <a:gd name="adj" fmla="val 5190"/>
            </a:avLst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0"/>
            <a:ext cx="912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6172200"/>
            <a:ext cx="406584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PU dies not to sca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21081000">
            <a:off x="930240" y="3632040"/>
            <a:ext cx="1095480" cy="113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1371600"/>
            <a:ext cx="2771640" cy="3776760"/>
          </a:xfrm>
          <a:custGeom>
            <a:avLst/>
            <a:gdLst>
              <a:gd name="textAreaLeft" fmla="*/ 42120 w 2771640"/>
              <a:gd name="textAreaRight" fmla="*/ 2729520 w 2771640"/>
              <a:gd name="textAreaTop" fmla="*/ 42120 h 3776760"/>
              <a:gd name="textAreaBottom" fmla="*/ 3734640 h 3776760"/>
            </a:gdLst>
            <a:ahLst/>
            <a:rect l="textAreaLeft" t="textAreaTop" r="textAreaRight" b="textAreaBottom"/>
            <a:pathLst>
              <a:path w="21600" h="29432">
                <a:moveTo>
                  <a:pt x="1121" y="0"/>
                </a:moveTo>
                <a:arcTo wR="1121" hR="1121" stAng="16200000" swAng="-5400000"/>
                <a:lnTo>
                  <a:pt x="0" y="28311"/>
                </a:lnTo>
                <a:arcTo wR="1121" hR="1121" stAng="10800000" swAng="-5400000"/>
                <a:lnTo>
                  <a:pt x="20479" y="29432"/>
                </a:lnTo>
                <a:arcTo wR="1121" hR="1121" stAng="5400000" swAng="-5400000"/>
                <a:lnTo>
                  <a:pt x="21600" y="1121"/>
                </a:lnTo>
                <a:arcTo wR="1121" hR="1121" stAng="0" swAng="-5400000"/>
                <a:close/>
              </a:path>
            </a:pathLst>
          </a:custGeom>
          <a:solidFill>
            <a:srgbClr val="0000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79360" y="2675880"/>
            <a:ext cx="1705320" cy="1294560"/>
            <a:chOff x="3879360" y="2675880"/>
            <a:chExt cx="1705320" cy="1294560"/>
          </a:xfrm>
        </p:grpSpPr>
        <p:pic>
          <p:nvPicPr>
            <p:cNvPr id="88" name="" descr=""/>
            <p:cNvPicPr/>
            <p:nvPr/>
          </p:nvPicPr>
          <p:blipFill>
            <a:blip r:embed="rId2"/>
            <a:srcRect l="0" t="0" r="32336" b="0"/>
            <a:stretch/>
          </p:blipFill>
          <p:spPr>
            <a:xfrm rot="21079200">
              <a:off x="3955680" y="2846160"/>
              <a:ext cx="77904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rcRect l="0" t="0" r="32336" b="0"/>
            <a:stretch/>
          </p:blipFill>
          <p:spPr>
            <a:xfrm rot="21079200">
              <a:off x="4729680" y="2728080"/>
              <a:ext cx="778680" cy="10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996480" y="1480680"/>
            <a:ext cx="1301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500" spc="-1" strike="noStrike">
                <a:solidFill>
                  <a:srgbClr val="f5e647"/>
                </a:solidFill>
                <a:latin typeface="Arial"/>
              </a:rPr>
              <a:t>TOD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4560" y="3575160"/>
            <a:ext cx="1244520" cy="1265040"/>
          </a:xfrm>
          <a:custGeom>
            <a:avLst/>
            <a:gdLst/>
            <a:ahLst/>
            <a:rect l="l" t="t" r="r" b="b"/>
            <a:pathLst>
              <a:path w="1011" h="1028">
                <a:moveTo>
                  <a:pt x="0" y="123"/>
                </a:moveTo>
                <a:lnTo>
                  <a:pt x="870" y="0"/>
                </a:lnTo>
                <a:lnTo>
                  <a:pt x="1011" y="905"/>
                </a:lnTo>
                <a:lnTo>
                  <a:pt x="135" y="1028"/>
                </a:lnTo>
                <a:lnTo>
                  <a:pt x="0" y="123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c2e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67120" y="2682720"/>
            <a:ext cx="1712880" cy="1282680"/>
          </a:xfrm>
          <a:custGeom>
            <a:avLst/>
            <a:gdLst/>
            <a:ahLst/>
            <a:rect l="l" t="t" r="r" b="b"/>
            <a:pathLst>
              <a:path w="1391" h="1042">
                <a:moveTo>
                  <a:pt x="0" y="189"/>
                </a:moveTo>
                <a:lnTo>
                  <a:pt x="1250" y="0"/>
                </a:lnTo>
                <a:lnTo>
                  <a:pt x="1391" y="840"/>
                </a:lnTo>
                <a:lnTo>
                  <a:pt x="135" y="1042"/>
                </a:lnTo>
                <a:lnTo>
                  <a:pt x="0" y="189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0c2e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993800">
            <a:off x="3444480" y="3914280"/>
            <a:ext cx="21574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484200">
            <a:off x="2707560" y="2783520"/>
            <a:ext cx="26560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erformance / Wat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11440" y="3174840"/>
            <a:ext cx="3913200" cy="1317960"/>
          </a:xfrm>
          <a:custGeom>
            <a:avLst/>
            <a:gdLst/>
            <a:ahLst/>
            <a:rect l="l" t="t" r="r" b="b"/>
            <a:pathLst>
              <a:path w="3101" h="1038">
                <a:moveTo>
                  <a:pt x="0" y="1038"/>
                </a:moveTo>
                <a:cubicBezTo>
                  <a:pt x="267" y="987"/>
                  <a:pt x="1088" y="903"/>
                  <a:pt x="1605" y="730"/>
                </a:cubicBezTo>
                <a:cubicBezTo>
                  <a:pt x="2122" y="557"/>
                  <a:pt x="2789" y="152"/>
                  <a:pt x="3101" y="0"/>
                </a:cubicBezTo>
              </a:path>
            </a:pathLst>
          </a:custGeom>
          <a:noFill/>
          <a:ln w="127080">
            <a:solidFill>
              <a:srgbClr val="ffff00"/>
            </a:solidFill>
            <a:round/>
            <a:tailEnd len="med" type="triangle" w="med"/>
          </a:ln>
          <a:effectLst>
            <a:outerShdw dist="36147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3280" y="2036880"/>
            <a:ext cx="3503520" cy="2336760"/>
          </a:xfrm>
          <a:custGeom>
            <a:avLst/>
            <a:gdLst/>
            <a:ahLst/>
            <a:rect l="l" t="t" r="r" b="b"/>
            <a:pathLst>
              <a:path w="2848" h="1899">
                <a:moveTo>
                  <a:pt x="0" y="1899"/>
                </a:moveTo>
                <a:cubicBezTo>
                  <a:pt x="267" y="1823"/>
                  <a:pt x="1123" y="1759"/>
                  <a:pt x="1598" y="1443"/>
                </a:cubicBezTo>
                <a:cubicBezTo>
                  <a:pt x="2073" y="1127"/>
                  <a:pt x="2588" y="301"/>
                  <a:pt x="2848" y="0"/>
                </a:cubicBezTo>
              </a:path>
            </a:pathLst>
          </a:custGeom>
          <a:noFill/>
          <a:ln w="127080">
            <a:solidFill>
              <a:srgbClr val="ff9900"/>
            </a:solidFill>
            <a:round/>
            <a:tailEnd len="med" type="triangle" w="med"/>
          </a:ln>
          <a:effectLst>
            <a:outerShdw dist="36147" dir="2700000" blurRad="0" rotWithShape="0">
              <a:srgbClr val="ff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886200"/>
            <a:ext cx="32022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2227320"/>
                <a:tab algn="l" pos="4454640"/>
                <a:tab algn="l" pos="6681960"/>
                <a:tab algn="l" pos="890892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Over 2X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erformance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2227320"/>
                <a:tab algn="l" pos="4454640"/>
                <a:tab algn="l" pos="6681960"/>
                <a:tab algn="l" pos="89089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94480" y="2077920"/>
            <a:ext cx="30337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227320"/>
                <a:tab algn="l" pos="4454640"/>
                <a:tab algn="l" pos="6681960"/>
                <a:tab algn="l" pos="890892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Great EEP! (Energy Efficient Perform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99080" y="6400800"/>
            <a:ext cx="3573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* vs. 64bit Intel® Xeon™ Processor based platform (as of May ’0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5181480"/>
            <a:ext cx="7204320" cy="927360"/>
          </a:xfrm>
          <a:prstGeom prst="roundRect">
            <a:avLst>
              <a:gd name="adj" fmla="val 50000"/>
            </a:avLst>
          </a:prstGeom>
          <a:solidFill>
            <a:srgbClr val="567eb9"/>
          </a:solidFill>
          <a:ln w="28440">
            <a:solidFill>
              <a:srgbClr val="567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Driven By Dual Core, Bala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latform Performance and Lower Power C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3040" y="1447560"/>
            <a:ext cx="10389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ctr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500" spc="-1" strike="noStrike">
                <a:solidFill>
                  <a:srgbClr val="f5e647"/>
                </a:solidFill>
                <a:latin typeface="Arial"/>
              </a:rPr>
              <a:t>2H’06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A8B1-92C4-4605-8E32-B734181861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03574-D7AF-44F7-B381-CE23E8EC6D28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llelis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45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/ impact on Multi-c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/ Threa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ding – when, why and how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Decomposi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Decomposi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Memory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to paralle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A879-E72C-449D-8406-7E3134FF95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E6FBC-6EAB-4243-B30B-45C8EBF3FE77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allelis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456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678600" indent="-226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/ Impact on Multi-c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78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lelism is the ability to process multiple instructions, threads or jobs simultaneously per clock cycle, dramatically improving overall perform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 cores allow full potential for parallelism. An analyst likened this to designing autos with multiple cylinders, each running at optimal power efficienc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Energy Efficient Performance, and scalabili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48BE-3ECD-4782-8D11-1C56595E33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33F31-BCFF-4394-8E65-1E433DD6F12E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Parallelism – Processes/Threads</a:t>
            </a:r>
            <a:endParaRPr b="1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480" y="1523880"/>
            <a:ext cx="473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ern operating systems load programs as proc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ource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rocess starts executing at its entry point as a threa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ads can create other threads within the pro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threads within a process share code &amp; data seg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981080"/>
            <a:ext cx="251460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4343400"/>
            <a:ext cx="2092320" cy="936360"/>
            <a:chOff x="838080" y="4343400"/>
            <a:chExt cx="2092320" cy="936360"/>
          </a:xfrm>
        </p:grpSpPr>
        <p:sp>
          <p:nvSpPr>
            <p:cNvPr id="110" name=""/>
            <p:cNvSpPr/>
            <p:nvPr/>
          </p:nvSpPr>
          <p:spPr>
            <a:xfrm>
              <a:off x="838080" y="4343400"/>
              <a:ext cx="2092320" cy="417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de seg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4862520"/>
              <a:ext cx="2092320" cy="417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ata seg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219320" y="2133720"/>
            <a:ext cx="1133280" cy="922320"/>
          </a:xfrm>
          <a:prstGeom prst="rect">
            <a:avLst/>
          </a:prstGeom>
          <a:solidFill>
            <a:srgbClr val="f5e6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5c00"/>
                </a:solidFill>
                <a:latin typeface="Arial"/>
              </a:rPr>
              <a:t>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Arial"/>
              </a:rPr>
              <a:t>main</a:t>
            </a:r>
            <a:r>
              <a:rPr b="0" lang="en-US" sz="2400" spc="-1" strike="noStrike">
                <a:solidFill>
                  <a:srgbClr val="ff5c0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3352680"/>
            <a:ext cx="2305080" cy="833400"/>
            <a:chOff x="685800" y="3352680"/>
            <a:chExt cx="2305080" cy="833400"/>
          </a:xfrm>
        </p:grpSpPr>
        <p:sp>
          <p:nvSpPr>
            <p:cNvPr id="114" name=""/>
            <p:cNvSpPr/>
            <p:nvPr/>
          </p:nvSpPr>
          <p:spPr>
            <a:xfrm>
              <a:off x="1608120" y="3551040"/>
              <a:ext cx="4572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c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" y="3354120"/>
              <a:ext cx="1001520" cy="831600"/>
            </a:xfrm>
            <a:prstGeom prst="rect">
              <a:avLst/>
            </a:prstGeom>
            <a:solidFill>
              <a:srgbClr val="f5e6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5c00"/>
                  </a:solidFill>
                  <a:latin typeface="Arial"/>
                </a:rPr>
                <a:t>thre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69920" y="3352680"/>
              <a:ext cx="1020960" cy="833400"/>
            </a:xfrm>
            <a:prstGeom prst="rect">
              <a:avLst/>
            </a:prstGeom>
            <a:solidFill>
              <a:srgbClr val="f5e64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5c00"/>
                  </a:solidFill>
                  <a:latin typeface="Arial"/>
                </a:rPr>
                <a:t>thre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6F21-4BF7-4E7E-8F46-0D9840B623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94CB3-988D-427F-B8EC-879DF19CD1AC}" type="datetime1">
              <a:rPr lang="en-US"/>
              <a:t>07/29/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05:50:27Z</dcterms:created>
  <dc:creator>Kittur Ganesh</dc:creator>
  <dc:description/>
  <dc:language>en-US</dc:language>
  <cp:lastModifiedBy>kganesh1</cp:lastModifiedBy>
  <dcterms:modified xsi:type="dcterms:W3CDTF">2006-04-14T14:41:53Z</dcterms:modified>
  <cp:revision>475</cp:revision>
  <dc:subject>Optimization Techniques</dc:subject>
  <dc:title>Optimization Techniques for Maximizing Application Performance on Multicore Process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Category">
    <vt:lpwstr>Unspecified</vt:lpwstr>
  </property>
</Properties>
</file>